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530-B9D4-409C-A2CD-D916742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D47-D55C-4602-9E56-0E0B8EF4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EF5-8DEA-490E-ADEE-646CE15A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F3C-ED66-42A2-ACCF-AD8C981D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25D8-21C6-4198-B15C-675ED497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C9755-8D54-4005-A625-F4C23A5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3B30F-FED3-4776-910F-D34CB955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DF6C-4792-4D80-86FC-48784CB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2A7D-2EC2-4517-9D92-23D8FF88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BA3C4-F033-43D4-B35F-2B16F390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C6C48-2A5B-4F13-ACC6-83202795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C50-C523-4888-8BC7-5AA6E08D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937B-48CB-46AD-A21F-D6C42219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53941-6A27-49F5-A397-295EC46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A0447-13D0-4E4B-841C-DA4667E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AD41F-EB4B-4F24-A7D6-D512E07F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61AF1-288A-4D2C-8943-04E9C368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342-DAA4-45C1-892D-C984EC35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FED-E425-4DC6-96F5-75C152C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2AB-BC1A-4A6F-8C69-119FA14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A98-6F3D-4950-B2A4-0E348A0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3E9-D94F-4AF6-8B72-8D4433A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0D4-F5E8-458E-B2CB-CE84B1F7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EEC-4D04-4581-A763-8B329C4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B2D-C016-49D6-9BB8-00DD3CE6F2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D9B-ABCF-43BF-BEC9-EEAAB00CFE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A Review Day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Unit 8: Statistics and Probabilit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: Probability of an event as a dec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jective: To express the experimental probability as a fraction, a decimal or %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ocabul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co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ossible result of an experiment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(heads or 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ollection of outcomes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(flipping co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“cha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tical probabilit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al probability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038480" y="2895480"/>
          <a:ext cx="335304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95480"/>
                    <a:ext cx="335304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920000" y="2955960"/>
            <a:ext cx="750960" cy="608040"/>
          </a:xfrm>
          <a:custGeom>
            <a:avLst/>
            <a:gdLst/>
            <a:ahLst/>
            <a:rect l="l" t="t" r="r" b="b"/>
            <a:pathLst>
              <a:path w="2084" h="1688">
                <a:moveTo>
                  <a:pt x="22027" y="9079"/>
                </a:moveTo>
                <a:cubicBezTo>
                  <a:pt x="22011" y="9034"/>
                  <a:pt x="22020" y="9052"/>
                  <a:pt x="22101" y="9029"/>
                </a:cubicBezTo>
                <a:cubicBezTo>
                  <a:pt x="22319" y="8966"/>
                  <a:pt x="22524" y="8995"/>
                  <a:pt x="22746" y="8979"/>
                </a:cubicBezTo>
                <a:cubicBezTo>
                  <a:pt x="23035" y="8959"/>
                  <a:pt x="23325" y="8940"/>
                  <a:pt x="23614" y="8905"/>
                </a:cubicBezTo>
                <a:cubicBezTo>
                  <a:pt x="23770" y="8886"/>
                  <a:pt x="23933" y="8893"/>
                  <a:pt x="24085" y="8855"/>
                </a:cubicBezTo>
                <a:cubicBezTo>
                  <a:pt x="24061" y="8855"/>
                  <a:pt x="24052" y="8855"/>
                  <a:pt x="24036" y="8855"/>
                </a:cubicBezTo>
              </a:path>
              <a:path w="2084" h="1688">
                <a:moveTo>
                  <a:pt x="22994" y="9153"/>
                </a:moveTo>
                <a:cubicBezTo>
                  <a:pt x="22994" y="9119"/>
                  <a:pt x="22944" y="9189"/>
                  <a:pt x="22920" y="9227"/>
                </a:cubicBezTo>
                <a:cubicBezTo>
                  <a:pt x="22860" y="9322"/>
                  <a:pt x="22854" y="9400"/>
                  <a:pt x="22820" y="9500"/>
                </a:cubicBezTo>
                <a:cubicBezTo>
                  <a:pt x="22793" y="9580"/>
                  <a:pt x="22788" y="9662"/>
                  <a:pt x="22796" y="9723"/>
                </a:cubicBezTo>
                <a:cubicBezTo>
                  <a:pt x="22807" y="9806"/>
                  <a:pt x="22790" y="9780"/>
                  <a:pt x="22845" y="9823"/>
                </a:cubicBezTo>
                <a:cubicBezTo>
                  <a:pt x="22908" y="9871"/>
                  <a:pt x="22935" y="9892"/>
                  <a:pt x="23019" y="9897"/>
                </a:cubicBezTo>
                <a:cubicBezTo>
                  <a:pt x="23078" y="9900"/>
                  <a:pt x="23166" y="9896"/>
                  <a:pt x="23217" y="9872"/>
                </a:cubicBezTo>
                <a:cubicBezTo>
                  <a:pt x="23260" y="9852"/>
                  <a:pt x="23329" y="9821"/>
                  <a:pt x="23341" y="9773"/>
                </a:cubicBezTo>
                <a:cubicBezTo>
                  <a:pt x="23349" y="9741"/>
                  <a:pt x="23386" y="9689"/>
                  <a:pt x="23366" y="9649"/>
                </a:cubicBezTo>
                <a:cubicBezTo>
                  <a:pt x="23332" y="9580"/>
                  <a:pt x="23260" y="9555"/>
                  <a:pt x="23192" y="9550"/>
                </a:cubicBezTo>
                <a:cubicBezTo>
                  <a:pt x="23166" y="9548"/>
                  <a:pt x="23104" y="9559"/>
                  <a:pt x="23093" y="9575"/>
                </a:cubicBezTo>
                <a:cubicBezTo>
                  <a:pt x="23073" y="9604"/>
                  <a:pt x="23048" y="9659"/>
                  <a:pt x="23044" y="9699"/>
                </a:cubicBezTo>
                <a:cubicBezTo>
                  <a:pt x="23038" y="9763"/>
                  <a:pt x="23054" y="9790"/>
                  <a:pt x="23068" y="9847"/>
                </a:cubicBezTo>
                <a:cubicBezTo>
                  <a:pt x="23068" y="9872"/>
                  <a:pt x="23068" y="9880"/>
                  <a:pt x="23068" y="9897"/>
                </a:cubicBezTo>
              </a:path>
              <a:path w="2084" h="1688">
                <a:moveTo>
                  <a:pt x="23093" y="8260"/>
                </a:moveTo>
                <a:cubicBezTo>
                  <a:pt x="23093" y="8235"/>
                  <a:pt x="23093" y="8227"/>
                  <a:pt x="23093" y="8210"/>
                </a:cubicBezTo>
                <a:cubicBezTo>
                  <a:pt x="23093" y="8327"/>
                  <a:pt x="23053" y="8441"/>
                  <a:pt x="23044" y="8558"/>
                </a:cubicBezTo>
                <a:cubicBezTo>
                  <a:pt x="23038" y="8630"/>
                  <a:pt x="23044" y="8708"/>
                  <a:pt x="23044" y="878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9880" y="3919680"/>
            <a:ext cx="2679840" cy="331560"/>
          </a:xfrm>
          <a:custGeom>
            <a:avLst/>
            <a:gdLst/>
            <a:ahLst/>
            <a:rect l="l" t="t" r="r" b="b"/>
            <a:pathLst>
              <a:path w="7443" h="919">
                <a:moveTo>
                  <a:pt x="14932" y="11485"/>
                </a:moveTo>
                <a:cubicBezTo>
                  <a:pt x="14840" y="11423"/>
                  <a:pt x="14686" y="11423"/>
                  <a:pt x="14610" y="11534"/>
                </a:cubicBezTo>
                <a:cubicBezTo>
                  <a:pt x="14489" y="11710"/>
                  <a:pt x="14727" y="11883"/>
                  <a:pt x="14883" y="11757"/>
                </a:cubicBezTo>
                <a:cubicBezTo>
                  <a:pt x="14916" y="11708"/>
                  <a:pt x="14949" y="11658"/>
                  <a:pt x="14982" y="11609"/>
                </a:cubicBezTo>
              </a:path>
              <a:path w="7443" h="919">
                <a:moveTo>
                  <a:pt x="21158" y="10914"/>
                </a:moveTo>
                <a:cubicBezTo>
                  <a:pt x="21150" y="10914"/>
                  <a:pt x="21142" y="10914"/>
                  <a:pt x="21134" y="10914"/>
                </a:cubicBezTo>
              </a:path>
              <a:path w="7443" h="919">
                <a:moveTo>
                  <a:pt x="21134" y="10914"/>
                </a:moveTo>
                <a:lnTo>
                  <a:pt x="21134" y="10914"/>
                </a:lnTo>
              </a:path>
              <a:path w="7443" h="919">
                <a:moveTo>
                  <a:pt x="21952" y="10889"/>
                </a:moveTo>
                <a:cubicBezTo>
                  <a:pt x="22003" y="11093"/>
                  <a:pt x="22044" y="11253"/>
                  <a:pt x="22002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45000" y="3946680"/>
            <a:ext cx="884160" cy="349200"/>
          </a:xfrm>
          <a:custGeom>
            <a:avLst/>
            <a:gdLst/>
            <a:ahLst/>
            <a:rect l="l" t="t" r="r" b="b"/>
            <a:pathLst>
              <a:path w="2456" h="968">
                <a:moveTo>
                  <a:pt x="12750" y="10964"/>
                </a:moveTo>
                <a:cubicBezTo>
                  <a:pt x="12728" y="11203"/>
                  <a:pt x="12712" y="11443"/>
                  <a:pt x="12700" y="11683"/>
                </a:cubicBezTo>
                <a:cubicBezTo>
                  <a:pt x="12700" y="11774"/>
                  <a:pt x="12700" y="11782"/>
                  <a:pt x="12700" y="11832"/>
                </a:cubicBezTo>
                <a:cubicBezTo>
                  <a:pt x="12700" y="11719"/>
                  <a:pt x="12695" y="11551"/>
                  <a:pt x="12774" y="11460"/>
                </a:cubicBezTo>
                <a:cubicBezTo>
                  <a:pt x="12885" y="11405"/>
                  <a:pt x="12930" y="11388"/>
                  <a:pt x="13022" y="11410"/>
                </a:cubicBezTo>
                <a:cubicBezTo>
                  <a:pt x="13121" y="11605"/>
                  <a:pt x="13138" y="11789"/>
                  <a:pt x="12898" y="11906"/>
                </a:cubicBezTo>
                <a:cubicBezTo>
                  <a:pt x="12792" y="11958"/>
                  <a:pt x="12615" y="11935"/>
                  <a:pt x="12650" y="11807"/>
                </a:cubicBezTo>
              </a:path>
              <a:path w="2456" h="968">
                <a:moveTo>
                  <a:pt x="13469" y="11609"/>
                </a:moveTo>
                <a:cubicBezTo>
                  <a:pt x="13486" y="11525"/>
                  <a:pt x="13520" y="11534"/>
                  <a:pt x="13444" y="11485"/>
                </a:cubicBezTo>
                <a:cubicBezTo>
                  <a:pt x="13344" y="11492"/>
                  <a:pt x="13085" y="11636"/>
                  <a:pt x="13221" y="11807"/>
                </a:cubicBezTo>
                <a:cubicBezTo>
                  <a:pt x="13254" y="11815"/>
                  <a:pt x="13287" y="11824"/>
                  <a:pt x="13320" y="11832"/>
                </a:cubicBezTo>
                <a:cubicBezTo>
                  <a:pt x="13455" y="11754"/>
                  <a:pt x="13469" y="11731"/>
                  <a:pt x="13469" y="11559"/>
                </a:cubicBezTo>
                <a:cubicBezTo>
                  <a:pt x="13481" y="11623"/>
                  <a:pt x="13503" y="11852"/>
                  <a:pt x="13593" y="11782"/>
                </a:cubicBezTo>
                <a:cubicBezTo>
                  <a:pt x="13634" y="11741"/>
                  <a:pt x="13676" y="11699"/>
                  <a:pt x="13717" y="11658"/>
                </a:cubicBezTo>
              </a:path>
              <a:path w="2456" h="968">
                <a:moveTo>
                  <a:pt x="13841" y="11385"/>
                </a:moveTo>
                <a:cubicBezTo>
                  <a:pt x="13771" y="11385"/>
                  <a:pt x="13733" y="11396"/>
                  <a:pt x="13692" y="11410"/>
                </a:cubicBezTo>
                <a:cubicBezTo>
                  <a:pt x="13760" y="11444"/>
                  <a:pt x="14060" y="11543"/>
                  <a:pt x="13965" y="11683"/>
                </a:cubicBezTo>
                <a:cubicBezTo>
                  <a:pt x="13886" y="11800"/>
                  <a:pt x="13729" y="11790"/>
                  <a:pt x="13742" y="11658"/>
                </a:cubicBezTo>
              </a:path>
              <a:path w="2456" h="968">
                <a:moveTo>
                  <a:pt x="14263" y="11559"/>
                </a:moveTo>
                <a:cubicBezTo>
                  <a:pt x="14337" y="11559"/>
                  <a:pt x="14412" y="11559"/>
                  <a:pt x="14486" y="11559"/>
                </a:cubicBezTo>
                <a:cubicBezTo>
                  <a:pt x="14486" y="11476"/>
                  <a:pt x="14510" y="11361"/>
                  <a:pt x="14387" y="11361"/>
                </a:cubicBezTo>
                <a:cubicBezTo>
                  <a:pt x="14232" y="11361"/>
                  <a:pt x="14070" y="11582"/>
                  <a:pt x="14213" y="11708"/>
                </a:cubicBezTo>
                <a:cubicBezTo>
                  <a:pt x="14303" y="11787"/>
                  <a:pt x="14569" y="11717"/>
                  <a:pt x="14660" y="11708"/>
                </a:cubicBezTo>
              </a:path>
              <a:path w="2456" h="968">
                <a:moveTo>
                  <a:pt x="14957" y="10964"/>
                </a:moveTo>
                <a:cubicBezTo>
                  <a:pt x="14925" y="11200"/>
                  <a:pt x="14911" y="11471"/>
                  <a:pt x="14957" y="11708"/>
                </a:cubicBezTo>
                <a:cubicBezTo>
                  <a:pt x="15003" y="11754"/>
                  <a:pt x="15035" y="11744"/>
                  <a:pt x="15081" y="116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3080" y="4062240"/>
            <a:ext cx="330120" cy="169920"/>
          </a:xfrm>
          <a:custGeom>
            <a:avLst/>
            <a:gdLst/>
            <a:ahLst/>
            <a:rect l="l" t="t" r="r" b="b"/>
            <a:pathLst>
              <a:path w="919" h="472">
                <a:moveTo>
                  <a:pt x="15949" y="11286"/>
                </a:moveTo>
                <a:cubicBezTo>
                  <a:pt x="15786" y="11319"/>
                  <a:pt x="15684" y="11450"/>
                  <a:pt x="15701" y="11633"/>
                </a:cubicBezTo>
                <a:cubicBezTo>
                  <a:pt x="15718" y="11666"/>
                  <a:pt x="15734" y="11700"/>
                  <a:pt x="15751" y="11733"/>
                </a:cubicBezTo>
                <a:cubicBezTo>
                  <a:pt x="15951" y="11732"/>
                  <a:pt x="16182" y="11674"/>
                  <a:pt x="16049" y="11410"/>
                </a:cubicBezTo>
                <a:cubicBezTo>
                  <a:pt x="16005" y="11322"/>
                  <a:pt x="15882" y="11334"/>
                  <a:pt x="15974" y="11311"/>
                </a:cubicBezTo>
              </a:path>
              <a:path w="919" h="472">
                <a:moveTo>
                  <a:pt x="16222" y="11435"/>
                </a:moveTo>
                <a:cubicBezTo>
                  <a:pt x="16222" y="11576"/>
                  <a:pt x="16222" y="11617"/>
                  <a:pt x="16222" y="11708"/>
                </a:cubicBezTo>
                <a:cubicBezTo>
                  <a:pt x="16222" y="11755"/>
                  <a:pt x="16248" y="11460"/>
                  <a:pt x="16272" y="11410"/>
                </a:cubicBezTo>
                <a:cubicBezTo>
                  <a:pt x="16379" y="11185"/>
                  <a:pt x="16536" y="11319"/>
                  <a:pt x="16594" y="11485"/>
                </a:cubicBezTo>
                <a:cubicBezTo>
                  <a:pt x="16616" y="11593"/>
                  <a:pt x="16629" y="11619"/>
                  <a:pt x="16594" y="1168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7760" y="3875040"/>
            <a:ext cx="536400" cy="312840"/>
          </a:xfrm>
          <a:custGeom>
            <a:avLst/>
            <a:gdLst/>
            <a:ahLst/>
            <a:rect l="l" t="t" r="r" b="b"/>
            <a:pathLst>
              <a:path w="1490" h="869">
                <a:moveTo>
                  <a:pt x="17413" y="10988"/>
                </a:moveTo>
                <a:cubicBezTo>
                  <a:pt x="17413" y="10839"/>
                  <a:pt x="17446" y="11236"/>
                  <a:pt x="17438" y="11385"/>
                </a:cubicBezTo>
                <a:cubicBezTo>
                  <a:pt x="17432" y="11484"/>
                  <a:pt x="17413" y="11684"/>
                  <a:pt x="17413" y="11584"/>
                </a:cubicBezTo>
              </a:path>
              <a:path w="1490" h="869">
                <a:moveTo>
                  <a:pt x="17214" y="11261"/>
                </a:moveTo>
                <a:cubicBezTo>
                  <a:pt x="17382" y="11261"/>
                  <a:pt x="17550" y="11265"/>
                  <a:pt x="17711" y="11237"/>
                </a:cubicBezTo>
                <a:cubicBezTo>
                  <a:pt x="17719" y="11237"/>
                  <a:pt x="17727" y="11237"/>
                  <a:pt x="17735" y="11237"/>
                </a:cubicBezTo>
              </a:path>
              <a:path w="1490" h="869">
                <a:moveTo>
                  <a:pt x="17785" y="10765"/>
                </a:moveTo>
                <a:cubicBezTo>
                  <a:pt x="17785" y="10993"/>
                  <a:pt x="17782" y="11235"/>
                  <a:pt x="17810" y="11460"/>
                </a:cubicBezTo>
                <a:cubicBezTo>
                  <a:pt x="17829" y="11517"/>
                  <a:pt x="17838" y="11524"/>
                  <a:pt x="17835" y="11559"/>
                </a:cubicBezTo>
                <a:cubicBezTo>
                  <a:pt x="17835" y="11445"/>
                  <a:pt x="17841" y="11309"/>
                  <a:pt x="17909" y="11212"/>
                </a:cubicBezTo>
                <a:cubicBezTo>
                  <a:pt x="17977" y="11116"/>
                  <a:pt x="18173" y="11103"/>
                  <a:pt x="18207" y="11237"/>
                </a:cubicBezTo>
                <a:cubicBezTo>
                  <a:pt x="18234" y="11344"/>
                  <a:pt x="18207" y="11496"/>
                  <a:pt x="18207" y="11609"/>
                </a:cubicBezTo>
              </a:path>
              <a:path w="1490" h="869">
                <a:moveTo>
                  <a:pt x="18380" y="11410"/>
                </a:moveTo>
                <a:cubicBezTo>
                  <a:pt x="18432" y="11403"/>
                  <a:pt x="18583" y="11409"/>
                  <a:pt x="18628" y="11385"/>
                </a:cubicBezTo>
                <a:cubicBezTo>
                  <a:pt x="18650" y="11373"/>
                  <a:pt x="18629" y="11219"/>
                  <a:pt x="18628" y="11212"/>
                </a:cubicBezTo>
                <a:cubicBezTo>
                  <a:pt x="18628" y="11204"/>
                  <a:pt x="18628" y="11195"/>
                  <a:pt x="18628" y="11187"/>
                </a:cubicBezTo>
                <a:cubicBezTo>
                  <a:pt x="18493" y="11210"/>
                  <a:pt x="18323" y="11307"/>
                  <a:pt x="18380" y="11485"/>
                </a:cubicBezTo>
                <a:cubicBezTo>
                  <a:pt x="18438" y="11668"/>
                  <a:pt x="18625" y="11523"/>
                  <a:pt x="18703" y="11534"/>
                </a:cubicBezTo>
                <a:cubicBezTo>
                  <a:pt x="18703" y="11542"/>
                  <a:pt x="18703" y="11551"/>
                  <a:pt x="18703" y="1155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9920" y="3911760"/>
            <a:ext cx="920880" cy="384120"/>
          </a:xfrm>
          <a:custGeom>
            <a:avLst/>
            <a:gdLst/>
            <a:ahLst/>
            <a:rect l="l" t="t" r="r" b="b"/>
            <a:pathLst>
              <a:path w="2556" h="1068">
                <a:moveTo>
                  <a:pt x="19472" y="11336"/>
                </a:moveTo>
                <a:cubicBezTo>
                  <a:pt x="19448" y="11502"/>
                  <a:pt x="19468" y="11661"/>
                  <a:pt x="19472" y="11832"/>
                </a:cubicBezTo>
                <a:cubicBezTo>
                  <a:pt x="19472" y="11890"/>
                  <a:pt x="19472" y="11898"/>
                  <a:pt x="19472" y="11931"/>
                </a:cubicBezTo>
              </a:path>
              <a:path w="2556" h="1068">
                <a:moveTo>
                  <a:pt x="19224" y="11212"/>
                </a:moveTo>
                <a:cubicBezTo>
                  <a:pt x="19351" y="11193"/>
                  <a:pt x="19753" y="11109"/>
                  <a:pt x="19819" y="11286"/>
                </a:cubicBezTo>
                <a:cubicBezTo>
                  <a:pt x="19891" y="11478"/>
                  <a:pt x="19632" y="11598"/>
                  <a:pt x="19496" y="11559"/>
                </a:cubicBezTo>
                <a:cubicBezTo>
                  <a:pt x="19474" y="11536"/>
                  <a:pt x="19466" y="11531"/>
                  <a:pt x="19472" y="11509"/>
                </a:cubicBezTo>
              </a:path>
              <a:path w="2556" h="1068">
                <a:moveTo>
                  <a:pt x="20166" y="11187"/>
                </a:moveTo>
                <a:cubicBezTo>
                  <a:pt x="20094" y="11232"/>
                  <a:pt x="19800" y="11436"/>
                  <a:pt x="20017" y="11534"/>
                </a:cubicBezTo>
                <a:cubicBezTo>
                  <a:pt x="20133" y="11586"/>
                  <a:pt x="20413" y="11420"/>
                  <a:pt x="20290" y="11286"/>
                </a:cubicBezTo>
                <a:cubicBezTo>
                  <a:pt x="20217" y="11250"/>
                  <a:pt x="20212" y="11233"/>
                  <a:pt x="20166" y="11237"/>
                </a:cubicBezTo>
              </a:path>
              <a:path w="2556" h="1068">
                <a:moveTo>
                  <a:pt x="20538" y="11162"/>
                </a:moveTo>
                <a:cubicBezTo>
                  <a:pt x="20513" y="11187"/>
                  <a:pt x="20505" y="11195"/>
                  <a:pt x="20489" y="11212"/>
                </a:cubicBezTo>
                <a:cubicBezTo>
                  <a:pt x="20572" y="11278"/>
                  <a:pt x="20666" y="11316"/>
                  <a:pt x="20712" y="11410"/>
                </a:cubicBezTo>
                <a:cubicBezTo>
                  <a:pt x="20685" y="11426"/>
                  <a:pt x="20422" y="11469"/>
                  <a:pt x="20439" y="11435"/>
                </a:cubicBezTo>
                <a:cubicBezTo>
                  <a:pt x="20456" y="11427"/>
                  <a:pt x="20472" y="11418"/>
                  <a:pt x="20489" y="11410"/>
                </a:cubicBezTo>
              </a:path>
              <a:path w="2556" h="1068">
                <a:moveTo>
                  <a:pt x="20960" y="11187"/>
                </a:moveTo>
                <a:cubicBezTo>
                  <a:pt x="20912" y="11211"/>
                  <a:pt x="20898" y="11219"/>
                  <a:pt x="20861" y="11212"/>
                </a:cubicBezTo>
                <a:cubicBezTo>
                  <a:pt x="20881" y="11271"/>
                  <a:pt x="21006" y="11288"/>
                  <a:pt x="21059" y="11336"/>
                </a:cubicBezTo>
                <a:cubicBezTo>
                  <a:pt x="21076" y="11361"/>
                  <a:pt x="21092" y="11385"/>
                  <a:pt x="21109" y="11410"/>
                </a:cubicBezTo>
                <a:cubicBezTo>
                  <a:pt x="20990" y="11505"/>
                  <a:pt x="20958" y="11529"/>
                  <a:pt x="20836" y="11435"/>
                </a:cubicBezTo>
              </a:path>
              <a:path w="2556" h="1068">
                <a:moveTo>
                  <a:pt x="21183" y="11187"/>
                </a:moveTo>
                <a:cubicBezTo>
                  <a:pt x="21185" y="11219"/>
                  <a:pt x="21208" y="11481"/>
                  <a:pt x="21208" y="11410"/>
                </a:cubicBezTo>
              </a:path>
              <a:path w="2556" h="1068">
                <a:moveTo>
                  <a:pt x="21382" y="10864"/>
                </a:moveTo>
                <a:cubicBezTo>
                  <a:pt x="21413" y="11037"/>
                  <a:pt x="21444" y="11210"/>
                  <a:pt x="21456" y="11385"/>
                </a:cubicBezTo>
                <a:cubicBezTo>
                  <a:pt x="21491" y="11266"/>
                  <a:pt x="21549" y="11123"/>
                  <a:pt x="21704" y="11137"/>
                </a:cubicBezTo>
                <a:cubicBezTo>
                  <a:pt x="21870" y="11152"/>
                  <a:pt x="21762" y="11393"/>
                  <a:pt x="21679" y="11435"/>
                </a:cubicBezTo>
                <a:cubicBezTo>
                  <a:pt x="21535" y="11507"/>
                  <a:pt x="21546" y="11438"/>
                  <a:pt x="21530" y="1133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017960"/>
            <a:ext cx="125280" cy="108000"/>
          </a:xfrm>
          <a:custGeom>
            <a:avLst/>
            <a:gdLst/>
            <a:ahLst/>
            <a:rect l="l" t="t" r="r" b="b"/>
            <a:pathLst>
              <a:path w="348" h="299">
                <a:moveTo>
                  <a:pt x="22250" y="11286"/>
                </a:moveTo>
                <a:cubicBezTo>
                  <a:pt x="22300" y="11273"/>
                  <a:pt x="22406" y="11284"/>
                  <a:pt x="22448" y="11261"/>
                </a:cubicBezTo>
                <a:cubicBezTo>
                  <a:pt x="22456" y="11253"/>
                  <a:pt x="22465" y="11245"/>
                  <a:pt x="22473" y="11237"/>
                </a:cubicBezTo>
                <a:cubicBezTo>
                  <a:pt x="22416" y="11138"/>
                  <a:pt x="22324" y="11118"/>
                  <a:pt x="22250" y="11237"/>
                </a:cubicBezTo>
                <a:cubicBezTo>
                  <a:pt x="22129" y="11432"/>
                  <a:pt x="22411" y="11452"/>
                  <a:pt x="22523" y="11460"/>
                </a:cubicBezTo>
                <a:cubicBezTo>
                  <a:pt x="22539" y="11460"/>
                  <a:pt x="22556" y="11460"/>
                  <a:pt x="22572" y="114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4840" y="4313160"/>
            <a:ext cx="1312920" cy="179640"/>
          </a:xfrm>
          <a:custGeom>
            <a:avLst/>
            <a:gdLst/>
            <a:ahLst/>
            <a:rect l="l" t="t" r="r" b="b"/>
            <a:pathLst>
              <a:path w="3647" h="497">
                <a:moveTo>
                  <a:pt x="13866" y="12154"/>
                </a:moveTo>
                <a:cubicBezTo>
                  <a:pt x="13787" y="12107"/>
                  <a:pt x="13677" y="12146"/>
                  <a:pt x="13618" y="12229"/>
                </a:cubicBezTo>
                <a:cubicBezTo>
                  <a:pt x="13571" y="12346"/>
                  <a:pt x="13551" y="12381"/>
                  <a:pt x="13618" y="12452"/>
                </a:cubicBezTo>
                <a:cubicBezTo>
                  <a:pt x="13766" y="12460"/>
                  <a:pt x="14089" y="12397"/>
                  <a:pt x="13940" y="12154"/>
                </a:cubicBezTo>
                <a:cubicBezTo>
                  <a:pt x="13851" y="12110"/>
                  <a:pt x="13828" y="12097"/>
                  <a:pt x="13767" y="12080"/>
                </a:cubicBezTo>
              </a:path>
              <a:path w="3647" h="497">
                <a:moveTo>
                  <a:pt x="14039" y="12129"/>
                </a:moveTo>
                <a:cubicBezTo>
                  <a:pt x="14051" y="12224"/>
                  <a:pt x="14061" y="12427"/>
                  <a:pt x="14188" y="12452"/>
                </a:cubicBezTo>
                <a:cubicBezTo>
                  <a:pt x="14350" y="12483"/>
                  <a:pt x="14401" y="12291"/>
                  <a:pt x="14412" y="12179"/>
                </a:cubicBezTo>
                <a:cubicBezTo>
                  <a:pt x="14412" y="12296"/>
                  <a:pt x="14436" y="12463"/>
                  <a:pt x="14610" y="12427"/>
                </a:cubicBezTo>
                <a:cubicBezTo>
                  <a:pt x="14643" y="12402"/>
                  <a:pt x="14676" y="12378"/>
                  <a:pt x="14709" y="12353"/>
                </a:cubicBezTo>
              </a:path>
              <a:path w="3647" h="497">
                <a:moveTo>
                  <a:pt x="14759" y="11981"/>
                </a:moveTo>
                <a:cubicBezTo>
                  <a:pt x="14777" y="12092"/>
                  <a:pt x="14767" y="12364"/>
                  <a:pt x="14833" y="12452"/>
                </a:cubicBezTo>
                <a:cubicBezTo>
                  <a:pt x="14841" y="12452"/>
                  <a:pt x="14850" y="12452"/>
                  <a:pt x="14858" y="12452"/>
                </a:cubicBezTo>
              </a:path>
              <a:path w="3647" h="497">
                <a:moveTo>
                  <a:pt x="14635" y="12204"/>
                </a:moveTo>
                <a:cubicBezTo>
                  <a:pt x="14828" y="12177"/>
                  <a:pt x="15086" y="12103"/>
                  <a:pt x="15280" y="12154"/>
                </a:cubicBezTo>
                <a:cubicBezTo>
                  <a:pt x="15287" y="12156"/>
                  <a:pt x="15278" y="12260"/>
                  <a:pt x="15304" y="12179"/>
                </a:cubicBezTo>
                <a:cubicBezTo>
                  <a:pt x="15225" y="12077"/>
                  <a:pt x="15142" y="12098"/>
                  <a:pt x="15106" y="12254"/>
                </a:cubicBezTo>
                <a:cubicBezTo>
                  <a:pt x="15034" y="12566"/>
                  <a:pt x="15342" y="12421"/>
                  <a:pt x="15478" y="12353"/>
                </a:cubicBezTo>
                <a:cubicBezTo>
                  <a:pt x="15620" y="12272"/>
                  <a:pt x="15658" y="12270"/>
                  <a:pt x="15701" y="12179"/>
                </a:cubicBezTo>
              </a:path>
              <a:path w="3647" h="497">
                <a:moveTo>
                  <a:pt x="15602" y="12129"/>
                </a:moveTo>
                <a:cubicBezTo>
                  <a:pt x="15504" y="12227"/>
                  <a:pt x="15495" y="12262"/>
                  <a:pt x="15478" y="12402"/>
                </a:cubicBezTo>
                <a:cubicBezTo>
                  <a:pt x="15553" y="12414"/>
                  <a:pt x="15827" y="12400"/>
                  <a:pt x="15751" y="12229"/>
                </a:cubicBezTo>
                <a:cubicBezTo>
                  <a:pt x="15673" y="12203"/>
                  <a:pt x="15645" y="12192"/>
                  <a:pt x="15602" y="12154"/>
                </a:cubicBezTo>
              </a:path>
              <a:path w="3647" h="497">
                <a:moveTo>
                  <a:pt x="15825" y="12229"/>
                </a:moveTo>
                <a:cubicBezTo>
                  <a:pt x="15845" y="12328"/>
                  <a:pt x="15853" y="12343"/>
                  <a:pt x="15850" y="12402"/>
                </a:cubicBezTo>
                <a:cubicBezTo>
                  <a:pt x="15850" y="12266"/>
                  <a:pt x="15833" y="12158"/>
                  <a:pt x="15974" y="12105"/>
                </a:cubicBezTo>
                <a:cubicBezTo>
                  <a:pt x="16099" y="12058"/>
                  <a:pt x="16087" y="12246"/>
                  <a:pt x="16098" y="12303"/>
                </a:cubicBezTo>
                <a:cubicBezTo>
                  <a:pt x="16098" y="12346"/>
                  <a:pt x="16120" y="12165"/>
                  <a:pt x="16148" y="12129"/>
                </a:cubicBezTo>
                <a:cubicBezTo>
                  <a:pt x="16280" y="11959"/>
                  <a:pt x="16353" y="12177"/>
                  <a:pt x="16371" y="12278"/>
                </a:cubicBezTo>
                <a:cubicBezTo>
                  <a:pt x="16371" y="12320"/>
                  <a:pt x="16371" y="12328"/>
                  <a:pt x="16371" y="12353"/>
                </a:cubicBezTo>
              </a:path>
              <a:path w="3647" h="497">
                <a:moveTo>
                  <a:pt x="16545" y="12179"/>
                </a:moveTo>
                <a:cubicBezTo>
                  <a:pt x="16630" y="12153"/>
                  <a:pt x="16657" y="12176"/>
                  <a:pt x="16669" y="12105"/>
                </a:cubicBezTo>
                <a:cubicBezTo>
                  <a:pt x="16509" y="12036"/>
                  <a:pt x="16508" y="12139"/>
                  <a:pt x="16495" y="12278"/>
                </a:cubicBezTo>
                <a:cubicBezTo>
                  <a:pt x="16484" y="12395"/>
                  <a:pt x="16802" y="12299"/>
                  <a:pt x="16842" y="12278"/>
                </a:cubicBezTo>
                <a:cubicBezTo>
                  <a:pt x="16875" y="12253"/>
                  <a:pt x="16909" y="12229"/>
                  <a:pt x="16942" y="12204"/>
                </a:cubicBezTo>
              </a:path>
              <a:path w="3647" h="497">
                <a:moveTo>
                  <a:pt x="17016" y="12055"/>
                </a:moveTo>
                <a:cubicBezTo>
                  <a:pt x="16954" y="12062"/>
                  <a:pt x="16919" y="12070"/>
                  <a:pt x="16867" y="12105"/>
                </a:cubicBezTo>
                <a:cubicBezTo>
                  <a:pt x="16965" y="12153"/>
                  <a:pt x="17146" y="12172"/>
                  <a:pt x="17214" y="12254"/>
                </a:cubicBezTo>
                <a:cubicBezTo>
                  <a:pt x="17214" y="12270"/>
                  <a:pt x="17214" y="12287"/>
                  <a:pt x="17214" y="12303"/>
                </a:cubicBezTo>
                <a:cubicBezTo>
                  <a:pt x="17102" y="12349"/>
                  <a:pt x="17032" y="12363"/>
                  <a:pt x="16917" y="1232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85080" y="4795920"/>
            <a:ext cx="241200" cy="7920"/>
          </a:xfrm>
          <a:custGeom>
            <a:avLst/>
            <a:gdLst/>
            <a:ahLst/>
            <a:rect l="l" t="t" r="r" b="b"/>
            <a:pathLst>
              <a:path w="670" h="26">
                <a:moveTo>
                  <a:pt x="21903" y="13320"/>
                </a:moveTo>
                <a:cubicBezTo>
                  <a:pt x="22135" y="13341"/>
                  <a:pt x="22339" y="13339"/>
                  <a:pt x="22572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97280" y="4714920"/>
            <a:ext cx="866880" cy="366840"/>
          </a:xfrm>
          <a:custGeom>
            <a:avLst/>
            <a:gdLst/>
            <a:ahLst/>
            <a:rect l="l" t="t" r="r" b="b"/>
            <a:pathLst>
              <a:path w="2407" h="1018">
                <a:moveTo>
                  <a:pt x="13047" y="13122"/>
                </a:moveTo>
                <a:cubicBezTo>
                  <a:pt x="13086" y="13313"/>
                  <a:pt x="13109" y="13522"/>
                  <a:pt x="13146" y="13717"/>
                </a:cubicBezTo>
                <a:cubicBezTo>
                  <a:pt x="13178" y="13886"/>
                  <a:pt x="13196" y="13935"/>
                  <a:pt x="13196" y="14089"/>
                </a:cubicBezTo>
                <a:cubicBezTo>
                  <a:pt x="13236" y="13880"/>
                  <a:pt x="13246" y="13766"/>
                  <a:pt x="13395" y="13618"/>
                </a:cubicBezTo>
                <a:cubicBezTo>
                  <a:pt x="13590" y="13705"/>
                  <a:pt x="13693" y="13844"/>
                  <a:pt x="13494" y="14039"/>
                </a:cubicBezTo>
                <a:cubicBezTo>
                  <a:pt x="13380" y="14151"/>
                  <a:pt x="13247" y="14148"/>
                  <a:pt x="13196" y="14015"/>
                </a:cubicBezTo>
              </a:path>
              <a:path w="2407" h="1018">
                <a:moveTo>
                  <a:pt x="13940" y="13767"/>
                </a:moveTo>
                <a:cubicBezTo>
                  <a:pt x="13930" y="13687"/>
                  <a:pt x="13912" y="13666"/>
                  <a:pt x="13866" y="13593"/>
                </a:cubicBezTo>
                <a:cubicBezTo>
                  <a:pt x="13708" y="13622"/>
                  <a:pt x="13494" y="13771"/>
                  <a:pt x="13667" y="13965"/>
                </a:cubicBezTo>
                <a:cubicBezTo>
                  <a:pt x="13803" y="14118"/>
                  <a:pt x="13870" y="13823"/>
                  <a:pt x="13891" y="13767"/>
                </a:cubicBezTo>
                <a:cubicBezTo>
                  <a:pt x="13891" y="13759"/>
                  <a:pt x="13891" y="13750"/>
                  <a:pt x="13891" y="13742"/>
                </a:cubicBezTo>
                <a:cubicBezTo>
                  <a:pt x="13904" y="13848"/>
                  <a:pt x="13929" y="14035"/>
                  <a:pt x="14064" y="14064"/>
                </a:cubicBezTo>
                <a:cubicBezTo>
                  <a:pt x="14089" y="14056"/>
                  <a:pt x="14114" y="14047"/>
                  <a:pt x="14139" y="14039"/>
                </a:cubicBezTo>
              </a:path>
              <a:path w="2407" h="1018">
                <a:moveTo>
                  <a:pt x="14213" y="13593"/>
                </a:moveTo>
                <a:cubicBezTo>
                  <a:pt x="14161" y="13626"/>
                  <a:pt x="14111" y="13648"/>
                  <a:pt x="14089" y="13692"/>
                </a:cubicBezTo>
                <a:cubicBezTo>
                  <a:pt x="14253" y="13756"/>
                  <a:pt x="14374" y="13812"/>
                  <a:pt x="14511" y="13915"/>
                </a:cubicBezTo>
                <a:cubicBezTo>
                  <a:pt x="14383" y="14108"/>
                  <a:pt x="14286" y="14110"/>
                  <a:pt x="14213" y="13915"/>
                </a:cubicBezTo>
              </a:path>
              <a:path w="2407" h="1018">
                <a:moveTo>
                  <a:pt x="14560" y="13742"/>
                </a:moveTo>
                <a:cubicBezTo>
                  <a:pt x="14661" y="13725"/>
                  <a:pt x="14762" y="13716"/>
                  <a:pt x="14858" y="13692"/>
                </a:cubicBezTo>
                <a:cubicBezTo>
                  <a:pt x="14814" y="13604"/>
                  <a:pt x="14624" y="13547"/>
                  <a:pt x="14536" y="13643"/>
                </a:cubicBezTo>
                <a:cubicBezTo>
                  <a:pt x="14354" y="13841"/>
                  <a:pt x="14520" y="14080"/>
                  <a:pt x="14759" y="14015"/>
                </a:cubicBezTo>
                <a:cubicBezTo>
                  <a:pt x="14833" y="13982"/>
                  <a:pt x="14908" y="13948"/>
                  <a:pt x="14982" y="13915"/>
                </a:cubicBezTo>
              </a:path>
              <a:path w="2407" h="1018">
                <a:moveTo>
                  <a:pt x="15280" y="13618"/>
                </a:moveTo>
                <a:cubicBezTo>
                  <a:pt x="15136" y="13521"/>
                  <a:pt x="14988" y="13629"/>
                  <a:pt x="14908" y="13791"/>
                </a:cubicBezTo>
                <a:cubicBezTo>
                  <a:pt x="14900" y="13841"/>
                  <a:pt x="14891" y="13890"/>
                  <a:pt x="14883" y="13940"/>
                </a:cubicBezTo>
                <a:cubicBezTo>
                  <a:pt x="15140" y="14096"/>
                  <a:pt x="15262" y="13960"/>
                  <a:pt x="15255" y="13643"/>
                </a:cubicBezTo>
                <a:cubicBezTo>
                  <a:pt x="15210" y="13377"/>
                  <a:pt x="15201" y="13309"/>
                  <a:pt x="15156" y="13146"/>
                </a:cubicBezTo>
                <a:cubicBezTo>
                  <a:pt x="15057" y="12985"/>
                  <a:pt x="15211" y="13409"/>
                  <a:pt x="15255" y="13593"/>
                </a:cubicBezTo>
                <a:cubicBezTo>
                  <a:pt x="15311" y="13830"/>
                  <a:pt x="15262" y="13850"/>
                  <a:pt x="15453" y="1389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69000" y="4660920"/>
            <a:ext cx="1428840" cy="357120"/>
          </a:xfrm>
          <a:custGeom>
            <a:avLst/>
            <a:gdLst/>
            <a:ahLst/>
            <a:rect l="l" t="t" r="r" b="b"/>
            <a:pathLst>
              <a:path w="3970" h="993">
                <a:moveTo>
                  <a:pt x="16247" y="13469"/>
                </a:moveTo>
                <a:cubicBezTo>
                  <a:pt x="16005" y="13544"/>
                  <a:pt x="16039" y="13692"/>
                  <a:pt x="16073" y="13915"/>
                </a:cubicBezTo>
                <a:cubicBezTo>
                  <a:pt x="16196" y="13909"/>
                  <a:pt x="16582" y="13798"/>
                  <a:pt x="16396" y="13568"/>
                </a:cubicBezTo>
                <a:cubicBezTo>
                  <a:pt x="16355" y="13552"/>
                  <a:pt x="16313" y="13535"/>
                  <a:pt x="16272" y="13519"/>
                </a:cubicBezTo>
              </a:path>
              <a:path w="3970" h="993">
                <a:moveTo>
                  <a:pt x="16545" y="13667"/>
                </a:moveTo>
                <a:cubicBezTo>
                  <a:pt x="16565" y="13777"/>
                  <a:pt x="16570" y="13910"/>
                  <a:pt x="16570" y="13742"/>
                </a:cubicBezTo>
                <a:cubicBezTo>
                  <a:pt x="16570" y="13621"/>
                  <a:pt x="16678" y="13327"/>
                  <a:pt x="16842" y="13543"/>
                </a:cubicBezTo>
                <a:cubicBezTo>
                  <a:pt x="16902" y="13622"/>
                  <a:pt x="16928" y="13744"/>
                  <a:pt x="16942" y="13841"/>
                </a:cubicBezTo>
              </a:path>
              <a:path w="3970" h="993">
                <a:moveTo>
                  <a:pt x="17512" y="13593"/>
                </a:moveTo>
                <a:cubicBezTo>
                  <a:pt x="17629" y="13582"/>
                  <a:pt x="17740" y="13568"/>
                  <a:pt x="17859" y="13568"/>
                </a:cubicBezTo>
                <a:cubicBezTo>
                  <a:pt x="17769" y="13456"/>
                  <a:pt x="17563" y="13426"/>
                  <a:pt x="17438" y="13543"/>
                </a:cubicBezTo>
                <a:cubicBezTo>
                  <a:pt x="17421" y="13584"/>
                  <a:pt x="17405" y="13626"/>
                  <a:pt x="17388" y="13667"/>
                </a:cubicBezTo>
                <a:cubicBezTo>
                  <a:pt x="17531" y="13830"/>
                  <a:pt x="17677" y="13919"/>
                  <a:pt x="17884" y="13742"/>
                </a:cubicBezTo>
                <a:cubicBezTo>
                  <a:pt x="17917" y="13701"/>
                  <a:pt x="17950" y="13659"/>
                  <a:pt x="17983" y="13618"/>
                </a:cubicBezTo>
              </a:path>
              <a:path w="3970" h="993">
                <a:moveTo>
                  <a:pt x="17983" y="13419"/>
                </a:moveTo>
                <a:cubicBezTo>
                  <a:pt x="18013" y="13571"/>
                  <a:pt x="18066" y="13689"/>
                  <a:pt x="18182" y="13791"/>
                </a:cubicBezTo>
                <a:cubicBezTo>
                  <a:pt x="18202" y="13634"/>
                  <a:pt x="18220" y="13526"/>
                  <a:pt x="18306" y="13395"/>
                </a:cubicBezTo>
                <a:cubicBezTo>
                  <a:pt x="18328" y="13373"/>
                  <a:pt x="18333" y="13364"/>
                  <a:pt x="18355" y="13370"/>
                </a:cubicBezTo>
              </a:path>
              <a:path w="3970" h="993">
                <a:moveTo>
                  <a:pt x="18455" y="13494"/>
                </a:moveTo>
                <a:cubicBezTo>
                  <a:pt x="18561" y="13449"/>
                  <a:pt x="18575" y="13443"/>
                  <a:pt x="18628" y="13345"/>
                </a:cubicBezTo>
                <a:cubicBezTo>
                  <a:pt x="18503" y="13281"/>
                  <a:pt x="18380" y="13394"/>
                  <a:pt x="18380" y="13543"/>
                </a:cubicBezTo>
                <a:cubicBezTo>
                  <a:pt x="18380" y="13871"/>
                  <a:pt x="18651" y="13703"/>
                  <a:pt x="18728" y="13543"/>
                </a:cubicBezTo>
                <a:cubicBezTo>
                  <a:pt x="18736" y="13518"/>
                  <a:pt x="18744" y="13494"/>
                  <a:pt x="18752" y="13469"/>
                </a:cubicBezTo>
                <a:cubicBezTo>
                  <a:pt x="18726" y="13576"/>
                  <a:pt x="18720" y="13617"/>
                  <a:pt x="18752" y="13692"/>
                </a:cubicBezTo>
                <a:cubicBezTo>
                  <a:pt x="18752" y="13738"/>
                  <a:pt x="18788" y="13518"/>
                  <a:pt x="18802" y="13494"/>
                </a:cubicBezTo>
                <a:cubicBezTo>
                  <a:pt x="18936" y="13270"/>
                  <a:pt x="19024" y="13582"/>
                  <a:pt x="19050" y="13667"/>
                </a:cubicBezTo>
                <a:cubicBezTo>
                  <a:pt x="19058" y="13692"/>
                  <a:pt x="19067" y="13717"/>
                  <a:pt x="19075" y="13742"/>
                </a:cubicBezTo>
              </a:path>
              <a:path w="3970" h="993">
                <a:moveTo>
                  <a:pt x="19149" y="12948"/>
                </a:moveTo>
                <a:cubicBezTo>
                  <a:pt x="19248" y="13167"/>
                  <a:pt x="19354" y="13404"/>
                  <a:pt x="19397" y="13643"/>
                </a:cubicBezTo>
                <a:cubicBezTo>
                  <a:pt x="19397" y="13721"/>
                  <a:pt x="19382" y="13739"/>
                  <a:pt x="19422" y="13767"/>
                </a:cubicBezTo>
                <a:cubicBezTo>
                  <a:pt x="19542" y="13739"/>
                  <a:pt x="19558" y="13724"/>
                  <a:pt x="19621" y="13618"/>
                </a:cubicBezTo>
              </a:path>
              <a:path w="3970" h="993">
                <a:moveTo>
                  <a:pt x="19075" y="13444"/>
                </a:moveTo>
                <a:cubicBezTo>
                  <a:pt x="19297" y="13397"/>
                  <a:pt x="19522" y="13384"/>
                  <a:pt x="19745" y="13345"/>
                </a:cubicBezTo>
                <a:cubicBezTo>
                  <a:pt x="19819" y="13326"/>
                  <a:pt x="19878" y="13318"/>
                  <a:pt x="19819" y="13320"/>
                </a:cubicBezTo>
                <a:cubicBezTo>
                  <a:pt x="19625" y="13385"/>
                  <a:pt x="19674" y="13370"/>
                  <a:pt x="19869" y="13444"/>
                </a:cubicBezTo>
                <a:cubicBezTo>
                  <a:pt x="19959" y="13480"/>
                  <a:pt x="20001" y="13461"/>
                  <a:pt x="19993" y="13519"/>
                </a:cubicBezTo>
                <a:cubicBezTo>
                  <a:pt x="19869" y="13616"/>
                  <a:pt x="19848" y="13627"/>
                  <a:pt x="19695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02680" y="4670280"/>
            <a:ext cx="625320" cy="285840"/>
          </a:xfrm>
          <a:custGeom>
            <a:avLst/>
            <a:gdLst/>
            <a:ahLst/>
            <a:rect l="l" t="t" r="r" b="b"/>
            <a:pathLst>
              <a:path w="1737" h="795">
                <a:moveTo>
                  <a:pt x="20737" y="13072"/>
                </a:moveTo>
                <a:cubicBezTo>
                  <a:pt x="20812" y="13297"/>
                  <a:pt x="20855" y="13507"/>
                  <a:pt x="20886" y="13742"/>
                </a:cubicBezTo>
                <a:cubicBezTo>
                  <a:pt x="20886" y="13793"/>
                  <a:pt x="20880" y="13776"/>
                  <a:pt x="20861" y="13667"/>
                </a:cubicBezTo>
              </a:path>
              <a:path w="1737" h="795">
                <a:moveTo>
                  <a:pt x="20563" y="13419"/>
                </a:moveTo>
                <a:cubicBezTo>
                  <a:pt x="20726" y="13435"/>
                  <a:pt x="21164" y="13554"/>
                  <a:pt x="21183" y="13295"/>
                </a:cubicBezTo>
                <a:cubicBezTo>
                  <a:pt x="21141" y="13188"/>
                  <a:pt x="21130" y="13164"/>
                  <a:pt x="21109" y="13097"/>
                </a:cubicBezTo>
                <a:cubicBezTo>
                  <a:pt x="21123" y="13287"/>
                  <a:pt x="21157" y="13459"/>
                  <a:pt x="21208" y="13643"/>
                </a:cubicBezTo>
                <a:cubicBezTo>
                  <a:pt x="21217" y="13563"/>
                  <a:pt x="21234" y="13450"/>
                  <a:pt x="21357" y="13345"/>
                </a:cubicBezTo>
                <a:cubicBezTo>
                  <a:pt x="21487" y="13457"/>
                  <a:pt x="21446" y="13691"/>
                  <a:pt x="21530" y="13767"/>
                </a:cubicBezTo>
                <a:cubicBezTo>
                  <a:pt x="21547" y="13759"/>
                  <a:pt x="21563" y="13750"/>
                  <a:pt x="21580" y="13742"/>
                </a:cubicBezTo>
              </a:path>
              <a:path w="1737" h="795">
                <a:moveTo>
                  <a:pt x="21952" y="13370"/>
                </a:moveTo>
                <a:cubicBezTo>
                  <a:pt x="21789" y="13337"/>
                  <a:pt x="21613" y="13468"/>
                  <a:pt x="21630" y="13667"/>
                </a:cubicBezTo>
                <a:cubicBezTo>
                  <a:pt x="21657" y="13982"/>
                  <a:pt x="21905" y="13589"/>
                  <a:pt x="21927" y="13519"/>
                </a:cubicBezTo>
                <a:cubicBezTo>
                  <a:pt x="21927" y="13502"/>
                  <a:pt x="21927" y="13486"/>
                  <a:pt x="21927" y="13469"/>
                </a:cubicBezTo>
                <a:cubicBezTo>
                  <a:pt x="21946" y="13562"/>
                  <a:pt x="22032" y="13785"/>
                  <a:pt x="22175" y="13667"/>
                </a:cubicBezTo>
                <a:cubicBezTo>
                  <a:pt x="22208" y="13618"/>
                  <a:pt x="22242" y="13568"/>
                  <a:pt x="22275" y="13519"/>
                </a:cubicBezTo>
              </a:path>
              <a:path w="1737" h="795">
                <a:moveTo>
                  <a:pt x="22225" y="12973"/>
                </a:moveTo>
                <a:cubicBezTo>
                  <a:pt x="22225" y="13197"/>
                  <a:pt x="22236" y="13422"/>
                  <a:pt x="22275" y="13643"/>
                </a:cubicBezTo>
                <a:cubicBezTo>
                  <a:pt x="22283" y="13668"/>
                  <a:pt x="22291" y="13692"/>
                  <a:pt x="22299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86840" y="4616280"/>
            <a:ext cx="660240" cy="268560"/>
          </a:xfrm>
          <a:custGeom>
            <a:avLst/>
            <a:gdLst/>
            <a:ahLst/>
            <a:rect l="l" t="t" r="r" b="b"/>
            <a:pathLst>
              <a:path w="1836" h="745">
                <a:moveTo>
                  <a:pt x="23019" y="12824"/>
                </a:moveTo>
                <a:cubicBezTo>
                  <a:pt x="23107" y="13071"/>
                  <a:pt x="23161" y="13313"/>
                  <a:pt x="23217" y="13568"/>
                </a:cubicBezTo>
                <a:cubicBezTo>
                  <a:pt x="23217" y="13360"/>
                  <a:pt x="23229" y="13293"/>
                  <a:pt x="23366" y="13146"/>
                </a:cubicBezTo>
                <a:cubicBezTo>
                  <a:pt x="23523" y="13252"/>
                  <a:pt x="23544" y="13381"/>
                  <a:pt x="23589" y="13568"/>
                </a:cubicBezTo>
              </a:path>
              <a:path w="1836" h="745">
                <a:moveTo>
                  <a:pt x="23912" y="13146"/>
                </a:moveTo>
                <a:cubicBezTo>
                  <a:pt x="23697" y="13197"/>
                  <a:pt x="23651" y="13274"/>
                  <a:pt x="23614" y="13494"/>
                </a:cubicBezTo>
                <a:cubicBezTo>
                  <a:pt x="23817" y="13508"/>
                  <a:pt x="23805" y="13438"/>
                  <a:pt x="23837" y="13246"/>
                </a:cubicBezTo>
                <a:cubicBezTo>
                  <a:pt x="23837" y="13254"/>
                  <a:pt x="23837" y="13263"/>
                  <a:pt x="23837" y="13271"/>
                </a:cubicBezTo>
                <a:cubicBezTo>
                  <a:pt x="23885" y="13356"/>
                  <a:pt x="23956" y="13500"/>
                  <a:pt x="24085" y="13444"/>
                </a:cubicBezTo>
                <a:cubicBezTo>
                  <a:pt x="24110" y="13419"/>
                  <a:pt x="24135" y="13395"/>
                  <a:pt x="24160" y="13370"/>
                </a:cubicBezTo>
              </a:path>
              <a:path w="1836" h="745">
                <a:moveTo>
                  <a:pt x="24185" y="13171"/>
                </a:moveTo>
                <a:cubicBezTo>
                  <a:pt x="24199" y="13292"/>
                  <a:pt x="24185" y="13395"/>
                  <a:pt x="24185" y="13519"/>
                </a:cubicBezTo>
                <a:cubicBezTo>
                  <a:pt x="24205" y="13414"/>
                  <a:pt x="24241" y="13305"/>
                  <a:pt x="24259" y="13196"/>
                </a:cubicBezTo>
                <a:cubicBezTo>
                  <a:pt x="24259" y="13188"/>
                  <a:pt x="24259" y="13179"/>
                  <a:pt x="24259" y="13171"/>
                </a:cubicBezTo>
              </a:path>
              <a:path w="1836" h="745">
                <a:moveTo>
                  <a:pt x="24457" y="13246"/>
                </a:moveTo>
                <a:cubicBezTo>
                  <a:pt x="24529" y="13200"/>
                  <a:pt x="24560" y="13186"/>
                  <a:pt x="24606" y="13122"/>
                </a:cubicBezTo>
                <a:cubicBezTo>
                  <a:pt x="24579" y="13042"/>
                  <a:pt x="24470" y="13176"/>
                  <a:pt x="24457" y="13221"/>
                </a:cubicBezTo>
                <a:cubicBezTo>
                  <a:pt x="24397" y="13426"/>
                  <a:pt x="24637" y="13410"/>
                  <a:pt x="24755" y="13370"/>
                </a:cubicBezTo>
                <a:cubicBezTo>
                  <a:pt x="24788" y="13353"/>
                  <a:pt x="24821" y="13337"/>
                  <a:pt x="24854" y="133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5143680"/>
            <a:ext cx="1179360" cy="447480"/>
          </a:xfrm>
          <a:custGeom>
            <a:avLst/>
            <a:gdLst/>
            <a:ahLst/>
            <a:rect l="l" t="t" r="r" b="b"/>
            <a:pathLst>
              <a:path w="3276" h="1241">
                <a:moveTo>
                  <a:pt x="12725" y="14932"/>
                </a:moveTo>
                <a:cubicBezTo>
                  <a:pt x="12665" y="14804"/>
                  <a:pt x="12569" y="14595"/>
                  <a:pt x="12402" y="14784"/>
                </a:cubicBezTo>
                <a:cubicBezTo>
                  <a:pt x="12287" y="14990"/>
                  <a:pt x="12246" y="15046"/>
                  <a:pt x="12278" y="15205"/>
                </a:cubicBezTo>
                <a:cubicBezTo>
                  <a:pt x="12554" y="15231"/>
                  <a:pt x="12599" y="15165"/>
                  <a:pt x="12626" y="14883"/>
                </a:cubicBezTo>
                <a:cubicBezTo>
                  <a:pt x="12641" y="14927"/>
                  <a:pt x="12786" y="15309"/>
                  <a:pt x="12874" y="15106"/>
                </a:cubicBezTo>
                <a:cubicBezTo>
                  <a:pt x="12882" y="15048"/>
                  <a:pt x="12890" y="14990"/>
                  <a:pt x="12898" y="14932"/>
                </a:cubicBezTo>
              </a:path>
              <a:path w="3276" h="1241">
                <a:moveTo>
                  <a:pt x="12824" y="14486"/>
                </a:moveTo>
                <a:cubicBezTo>
                  <a:pt x="12843" y="14679"/>
                  <a:pt x="12923" y="14867"/>
                  <a:pt x="12973" y="15056"/>
                </a:cubicBezTo>
                <a:cubicBezTo>
                  <a:pt x="12992" y="15134"/>
                  <a:pt x="12985" y="15184"/>
                  <a:pt x="13022" y="15131"/>
                </a:cubicBezTo>
              </a:path>
              <a:path w="3276" h="1241">
                <a:moveTo>
                  <a:pt x="13171" y="14808"/>
                </a:moveTo>
                <a:cubicBezTo>
                  <a:pt x="13225" y="14925"/>
                  <a:pt x="13271" y="15038"/>
                  <a:pt x="13320" y="15156"/>
                </a:cubicBezTo>
                <a:cubicBezTo>
                  <a:pt x="13300" y="15000"/>
                  <a:pt x="13256" y="14906"/>
                  <a:pt x="13320" y="14759"/>
                </a:cubicBezTo>
                <a:cubicBezTo>
                  <a:pt x="13346" y="14699"/>
                  <a:pt x="13573" y="14692"/>
                  <a:pt x="13618" y="14684"/>
                </a:cubicBezTo>
              </a:path>
              <a:path w="3276" h="1241">
                <a:moveTo>
                  <a:pt x="13618" y="14784"/>
                </a:moveTo>
                <a:cubicBezTo>
                  <a:pt x="13678" y="14780"/>
                  <a:pt x="13861" y="14804"/>
                  <a:pt x="13866" y="14734"/>
                </a:cubicBezTo>
                <a:cubicBezTo>
                  <a:pt x="13866" y="14717"/>
                  <a:pt x="13866" y="14701"/>
                  <a:pt x="13866" y="14684"/>
                </a:cubicBezTo>
                <a:cubicBezTo>
                  <a:pt x="13699" y="14608"/>
                  <a:pt x="13586" y="14622"/>
                  <a:pt x="13568" y="14858"/>
                </a:cubicBezTo>
                <a:cubicBezTo>
                  <a:pt x="13541" y="15210"/>
                  <a:pt x="13818" y="15068"/>
                  <a:pt x="13990" y="14982"/>
                </a:cubicBezTo>
              </a:path>
              <a:path w="3276" h="1241">
                <a:moveTo>
                  <a:pt x="14238" y="14709"/>
                </a:moveTo>
                <a:cubicBezTo>
                  <a:pt x="14122" y="14550"/>
                  <a:pt x="14029" y="14728"/>
                  <a:pt x="13965" y="14858"/>
                </a:cubicBezTo>
                <a:cubicBezTo>
                  <a:pt x="13948" y="14908"/>
                  <a:pt x="13932" y="14957"/>
                  <a:pt x="13915" y="15007"/>
                </a:cubicBezTo>
                <a:cubicBezTo>
                  <a:pt x="14115" y="15078"/>
                  <a:pt x="14178" y="15012"/>
                  <a:pt x="14238" y="14808"/>
                </a:cubicBezTo>
                <a:cubicBezTo>
                  <a:pt x="14238" y="14800"/>
                  <a:pt x="14238" y="14792"/>
                  <a:pt x="14238" y="14784"/>
                </a:cubicBezTo>
                <a:cubicBezTo>
                  <a:pt x="14331" y="14968"/>
                  <a:pt x="14358" y="14982"/>
                  <a:pt x="14536" y="14982"/>
                </a:cubicBezTo>
              </a:path>
              <a:path w="3276" h="1241">
                <a:moveTo>
                  <a:pt x="14734" y="14734"/>
                </a:moveTo>
                <a:cubicBezTo>
                  <a:pt x="14652" y="14643"/>
                  <a:pt x="14535" y="14553"/>
                  <a:pt x="14461" y="14734"/>
                </a:cubicBezTo>
                <a:cubicBezTo>
                  <a:pt x="14378" y="14939"/>
                  <a:pt x="14491" y="14951"/>
                  <a:pt x="14635" y="15007"/>
                </a:cubicBezTo>
                <a:cubicBezTo>
                  <a:pt x="14837" y="14843"/>
                  <a:pt x="14774" y="14829"/>
                  <a:pt x="14734" y="14536"/>
                </a:cubicBezTo>
              </a:path>
              <a:path w="3276" h="1241">
                <a:moveTo>
                  <a:pt x="14635" y="14288"/>
                </a:moveTo>
                <a:cubicBezTo>
                  <a:pt x="14677" y="14477"/>
                  <a:pt x="14717" y="14684"/>
                  <a:pt x="14808" y="14858"/>
                </a:cubicBezTo>
                <a:cubicBezTo>
                  <a:pt x="14874" y="14945"/>
                  <a:pt x="14884" y="14983"/>
                  <a:pt x="14957" y="14932"/>
                </a:cubicBezTo>
              </a:path>
              <a:path w="3276" h="1241">
                <a:moveTo>
                  <a:pt x="15081" y="14709"/>
                </a:moveTo>
                <a:cubicBezTo>
                  <a:pt x="15124" y="14807"/>
                  <a:pt x="15263" y="15161"/>
                  <a:pt x="15429" y="14932"/>
                </a:cubicBezTo>
                <a:cubicBezTo>
                  <a:pt x="15476" y="14791"/>
                  <a:pt x="15495" y="14749"/>
                  <a:pt x="15429" y="14660"/>
                </a:cubicBezTo>
                <a:cubicBezTo>
                  <a:pt x="15421" y="14652"/>
                  <a:pt x="15412" y="14643"/>
                  <a:pt x="15404" y="14635"/>
                </a:cubicBezTo>
                <a:cubicBezTo>
                  <a:pt x="15440" y="14835"/>
                  <a:pt x="15581" y="15074"/>
                  <a:pt x="15553" y="15280"/>
                </a:cubicBezTo>
                <a:cubicBezTo>
                  <a:pt x="15503" y="15657"/>
                  <a:pt x="15196" y="15514"/>
                  <a:pt x="15032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48200" y="5062680"/>
            <a:ext cx="1492560" cy="322200"/>
          </a:xfrm>
          <a:custGeom>
            <a:avLst/>
            <a:gdLst/>
            <a:ahLst/>
            <a:rect l="l" t="t" r="r" b="b"/>
            <a:pathLst>
              <a:path w="4143" h="894">
                <a:moveTo>
                  <a:pt x="16470" y="14560"/>
                </a:moveTo>
                <a:cubicBezTo>
                  <a:pt x="16345" y="14500"/>
                  <a:pt x="16222" y="14714"/>
                  <a:pt x="16247" y="14858"/>
                </a:cubicBezTo>
                <a:cubicBezTo>
                  <a:pt x="16272" y="14891"/>
                  <a:pt x="16296" y="14924"/>
                  <a:pt x="16321" y="14957"/>
                </a:cubicBezTo>
                <a:cubicBezTo>
                  <a:pt x="16520" y="14931"/>
                  <a:pt x="16715" y="14886"/>
                  <a:pt x="16520" y="14660"/>
                </a:cubicBezTo>
                <a:cubicBezTo>
                  <a:pt x="16503" y="14652"/>
                  <a:pt x="16487" y="14643"/>
                  <a:pt x="16470" y="14635"/>
                </a:cubicBezTo>
              </a:path>
              <a:path w="4143" h="894">
                <a:moveTo>
                  <a:pt x="16892" y="14560"/>
                </a:moveTo>
                <a:cubicBezTo>
                  <a:pt x="16917" y="14560"/>
                  <a:pt x="16925" y="14560"/>
                  <a:pt x="16917" y="14536"/>
                </a:cubicBezTo>
                <a:cubicBezTo>
                  <a:pt x="16813" y="14432"/>
                  <a:pt x="16740" y="14588"/>
                  <a:pt x="16743" y="14709"/>
                </a:cubicBezTo>
                <a:cubicBezTo>
                  <a:pt x="16753" y="15110"/>
                  <a:pt x="17222" y="14602"/>
                  <a:pt x="17264" y="14560"/>
                </a:cubicBezTo>
              </a:path>
              <a:path w="4143" h="894">
                <a:moveTo>
                  <a:pt x="17413" y="14362"/>
                </a:moveTo>
                <a:cubicBezTo>
                  <a:pt x="17435" y="14405"/>
                  <a:pt x="17438" y="14417"/>
                  <a:pt x="17462" y="14436"/>
                </a:cubicBezTo>
                <a:cubicBezTo>
                  <a:pt x="17422" y="14337"/>
                  <a:pt x="17310" y="14313"/>
                  <a:pt x="17289" y="14486"/>
                </a:cubicBezTo>
                <a:cubicBezTo>
                  <a:pt x="17243" y="14871"/>
                  <a:pt x="17501" y="14761"/>
                  <a:pt x="17711" y="14660"/>
                </a:cubicBezTo>
              </a:path>
              <a:path w="4143" h="894">
                <a:moveTo>
                  <a:pt x="17785" y="14387"/>
                </a:moveTo>
                <a:cubicBezTo>
                  <a:pt x="17785" y="14478"/>
                  <a:pt x="17752" y="14751"/>
                  <a:pt x="17884" y="14784"/>
                </a:cubicBezTo>
                <a:cubicBezTo>
                  <a:pt x="18038" y="14823"/>
                  <a:pt x="18090" y="14605"/>
                  <a:pt x="18107" y="14511"/>
                </a:cubicBezTo>
                <a:cubicBezTo>
                  <a:pt x="18148" y="14673"/>
                  <a:pt x="18259" y="14799"/>
                  <a:pt x="18455" y="14734"/>
                </a:cubicBezTo>
                <a:cubicBezTo>
                  <a:pt x="18496" y="14701"/>
                  <a:pt x="18538" y="14668"/>
                  <a:pt x="18579" y="14635"/>
                </a:cubicBezTo>
              </a:path>
              <a:path w="4143" h="894">
                <a:moveTo>
                  <a:pt x="18579" y="14536"/>
                </a:moveTo>
                <a:cubicBezTo>
                  <a:pt x="18579" y="14635"/>
                  <a:pt x="18579" y="14651"/>
                  <a:pt x="18579" y="14709"/>
                </a:cubicBezTo>
                <a:cubicBezTo>
                  <a:pt x="18621" y="14598"/>
                  <a:pt x="18621" y="14430"/>
                  <a:pt x="18703" y="14337"/>
                </a:cubicBezTo>
                <a:cubicBezTo>
                  <a:pt x="18776" y="14312"/>
                  <a:pt x="18800" y="14304"/>
                  <a:pt x="18852" y="14312"/>
                </a:cubicBezTo>
              </a:path>
              <a:path w="4143" h="894">
                <a:moveTo>
                  <a:pt x="19050" y="14511"/>
                </a:moveTo>
                <a:cubicBezTo>
                  <a:pt x="19050" y="14605"/>
                  <a:pt x="19029" y="14626"/>
                  <a:pt x="19075" y="14660"/>
                </a:cubicBezTo>
                <a:cubicBezTo>
                  <a:pt x="19075" y="14539"/>
                  <a:pt x="19071" y="14452"/>
                  <a:pt x="19124" y="14337"/>
                </a:cubicBezTo>
                <a:cubicBezTo>
                  <a:pt x="19172" y="14266"/>
                  <a:pt x="19185" y="14243"/>
                  <a:pt x="19248" y="14238"/>
                </a:cubicBezTo>
              </a:path>
              <a:path w="4143" h="894">
                <a:moveTo>
                  <a:pt x="19422" y="14412"/>
                </a:moveTo>
                <a:cubicBezTo>
                  <a:pt x="19517" y="14396"/>
                  <a:pt x="19582" y="14384"/>
                  <a:pt x="19621" y="14288"/>
                </a:cubicBezTo>
                <a:cubicBezTo>
                  <a:pt x="19517" y="14335"/>
                  <a:pt x="19281" y="14484"/>
                  <a:pt x="19422" y="14635"/>
                </a:cubicBezTo>
                <a:cubicBezTo>
                  <a:pt x="19463" y="14651"/>
                  <a:pt x="19505" y="14668"/>
                  <a:pt x="19546" y="14684"/>
                </a:cubicBezTo>
              </a:path>
              <a:path w="4143" h="894">
                <a:moveTo>
                  <a:pt x="20141" y="14387"/>
                </a:moveTo>
                <a:cubicBezTo>
                  <a:pt x="20004" y="14398"/>
                  <a:pt x="19847" y="14438"/>
                  <a:pt x="19819" y="14610"/>
                </a:cubicBezTo>
                <a:cubicBezTo>
                  <a:pt x="19827" y="14651"/>
                  <a:pt x="19836" y="14693"/>
                  <a:pt x="19844" y="14734"/>
                </a:cubicBezTo>
                <a:cubicBezTo>
                  <a:pt x="20083" y="14769"/>
                  <a:pt x="20173" y="14641"/>
                  <a:pt x="20191" y="14387"/>
                </a:cubicBezTo>
                <a:cubicBezTo>
                  <a:pt x="20201" y="14244"/>
                  <a:pt x="20166" y="14168"/>
                  <a:pt x="20092" y="14064"/>
                </a:cubicBezTo>
                <a:cubicBezTo>
                  <a:pt x="20124" y="14246"/>
                  <a:pt x="20181" y="14411"/>
                  <a:pt x="20241" y="14585"/>
                </a:cubicBezTo>
                <a:cubicBezTo>
                  <a:pt x="20279" y="14695"/>
                  <a:pt x="20267" y="14663"/>
                  <a:pt x="20389" y="1463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can range fr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The closer the probability of an event is 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the more likely it is that the event will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3448080"/>
            <a:ext cx="7162560" cy="361440"/>
            <a:chOff x="838080" y="3448080"/>
            <a:chExt cx="7162560" cy="361440"/>
          </a:xfrm>
        </p:grpSpPr>
        <p:sp>
          <p:nvSpPr>
            <p:cNvPr id="147" name=""/>
            <p:cNvSpPr/>
            <p:nvPr/>
          </p:nvSpPr>
          <p:spPr>
            <a:xfrm>
              <a:off x="838080" y="3636360"/>
              <a:ext cx="716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3448080"/>
              <a:ext cx="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620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684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784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98480" y="3448080"/>
              <a:ext cx="2160" cy="36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1600" y="382896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6308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472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1760" y="38307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040" y="38289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0" y="510552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840" y="5105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06040" y="51814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qual 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ges of Prob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68920" y="1820880"/>
            <a:ext cx="704880" cy="54000"/>
          </a:xfrm>
          <a:custGeom>
            <a:avLst/>
            <a:gdLst/>
            <a:ahLst/>
            <a:rect l="l" t="t" r="r" b="b"/>
            <a:pathLst>
              <a:path w="1960" h="150">
                <a:moveTo>
                  <a:pt x="13246" y="5209"/>
                </a:moveTo>
                <a:cubicBezTo>
                  <a:pt x="13415" y="5209"/>
                  <a:pt x="13581" y="5211"/>
                  <a:pt x="13742" y="5184"/>
                </a:cubicBezTo>
                <a:cubicBezTo>
                  <a:pt x="13832" y="5169"/>
                  <a:pt x="13934" y="5175"/>
                  <a:pt x="14015" y="5159"/>
                </a:cubicBezTo>
                <a:cubicBezTo>
                  <a:pt x="14099" y="5142"/>
                  <a:pt x="14205" y="5145"/>
                  <a:pt x="14288" y="5135"/>
                </a:cubicBezTo>
                <a:cubicBezTo>
                  <a:pt x="14356" y="5126"/>
                  <a:pt x="14422" y="5120"/>
                  <a:pt x="14486" y="5110"/>
                </a:cubicBezTo>
                <a:cubicBezTo>
                  <a:pt x="14568" y="5097"/>
                  <a:pt x="14654" y="5098"/>
                  <a:pt x="14734" y="5085"/>
                </a:cubicBezTo>
                <a:cubicBezTo>
                  <a:pt x="14856" y="5065"/>
                  <a:pt x="14987" y="5080"/>
                  <a:pt x="15106" y="5060"/>
                </a:cubicBezTo>
                <a:cubicBezTo>
                  <a:pt x="15137" y="5055"/>
                  <a:pt x="15174" y="5060"/>
                  <a:pt x="15205" y="506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7160" y="3911760"/>
            <a:ext cx="563760" cy="1303200"/>
          </a:xfrm>
          <a:custGeom>
            <a:avLst/>
            <a:gdLst/>
            <a:ahLst/>
            <a:rect l="l" t="t" r="r" b="b"/>
            <a:pathLst>
              <a:path w="1564" h="3623">
                <a:moveTo>
                  <a:pt x="2927" y="11757"/>
                </a:moveTo>
                <a:cubicBezTo>
                  <a:pt x="3047" y="11670"/>
                  <a:pt x="3341" y="11650"/>
                  <a:pt x="3473" y="11633"/>
                </a:cubicBezTo>
                <a:cubicBezTo>
                  <a:pt x="3634" y="11612"/>
                  <a:pt x="3784" y="11609"/>
                  <a:pt x="3944" y="11609"/>
                </a:cubicBezTo>
              </a:path>
              <a:path w="1564" h="3623">
                <a:moveTo>
                  <a:pt x="3299" y="11881"/>
                </a:moveTo>
                <a:cubicBezTo>
                  <a:pt x="3274" y="12009"/>
                  <a:pt x="3228" y="12120"/>
                  <a:pt x="3150" y="12229"/>
                </a:cubicBezTo>
                <a:cubicBezTo>
                  <a:pt x="3277" y="12229"/>
                  <a:pt x="3397" y="12194"/>
                  <a:pt x="3522" y="12179"/>
                </a:cubicBezTo>
                <a:cubicBezTo>
                  <a:pt x="3539" y="12179"/>
                  <a:pt x="3555" y="12179"/>
                  <a:pt x="3572" y="12179"/>
                </a:cubicBezTo>
              </a:path>
              <a:path w="1564" h="3623">
                <a:moveTo>
                  <a:pt x="3572" y="11832"/>
                </a:moveTo>
                <a:cubicBezTo>
                  <a:pt x="3541" y="11984"/>
                  <a:pt x="3547" y="12143"/>
                  <a:pt x="3547" y="12303"/>
                </a:cubicBezTo>
                <a:cubicBezTo>
                  <a:pt x="3547" y="12369"/>
                  <a:pt x="3547" y="12436"/>
                  <a:pt x="3547" y="12502"/>
                </a:cubicBezTo>
              </a:path>
              <a:path w="1564" h="3623">
                <a:moveTo>
                  <a:pt x="3646" y="10964"/>
                </a:moveTo>
                <a:cubicBezTo>
                  <a:pt x="3636" y="10933"/>
                  <a:pt x="3572" y="10875"/>
                  <a:pt x="3522" y="10864"/>
                </a:cubicBezTo>
                <a:cubicBezTo>
                  <a:pt x="3403" y="10838"/>
                  <a:pt x="3316" y="10889"/>
                  <a:pt x="3249" y="10988"/>
                </a:cubicBezTo>
                <a:cubicBezTo>
                  <a:pt x="3154" y="11129"/>
                  <a:pt x="3145" y="11315"/>
                  <a:pt x="3225" y="11460"/>
                </a:cubicBezTo>
                <a:cubicBezTo>
                  <a:pt x="3307" y="11609"/>
                  <a:pt x="3466" y="11620"/>
                  <a:pt x="3597" y="11509"/>
                </a:cubicBezTo>
                <a:cubicBezTo>
                  <a:pt x="3712" y="11412"/>
                  <a:pt x="3761" y="11225"/>
                  <a:pt x="3721" y="11088"/>
                </a:cubicBezTo>
                <a:cubicBezTo>
                  <a:pt x="3697" y="11007"/>
                  <a:pt x="3573" y="10970"/>
                  <a:pt x="3497" y="10988"/>
                </a:cubicBezTo>
                <a:cubicBezTo>
                  <a:pt x="3475" y="11011"/>
                  <a:pt x="3470" y="11019"/>
                  <a:pt x="3448" y="11013"/>
                </a:cubicBezTo>
              </a:path>
              <a:path w="1564" h="3623">
                <a:moveTo>
                  <a:pt x="3101" y="12526"/>
                </a:moveTo>
                <a:cubicBezTo>
                  <a:pt x="3101" y="12814"/>
                  <a:pt x="2987" y="13138"/>
                  <a:pt x="2927" y="13419"/>
                </a:cubicBezTo>
                <a:cubicBezTo>
                  <a:pt x="2851" y="13774"/>
                  <a:pt x="2792" y="14136"/>
                  <a:pt x="2704" y="14486"/>
                </a:cubicBezTo>
              </a:path>
              <a:path w="1564" h="3623">
                <a:moveTo>
                  <a:pt x="2381" y="13891"/>
                </a:moveTo>
                <a:cubicBezTo>
                  <a:pt x="2433" y="14071"/>
                  <a:pt x="2525" y="14259"/>
                  <a:pt x="2604" y="14436"/>
                </a:cubicBezTo>
                <a:cubicBezTo>
                  <a:pt x="2752" y="14290"/>
                  <a:pt x="2896" y="14126"/>
                  <a:pt x="3026" y="13965"/>
                </a:cubicBezTo>
                <a:cubicBezTo>
                  <a:pt x="3046" y="13924"/>
                  <a:pt x="3044" y="13908"/>
                  <a:pt x="3076" y="139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32840" y="3589200"/>
            <a:ext cx="376200" cy="1465560"/>
          </a:xfrm>
          <a:custGeom>
            <a:avLst/>
            <a:gdLst/>
            <a:ahLst/>
            <a:rect l="l" t="t" r="r" b="b"/>
            <a:pathLst>
              <a:path w="1043" h="4069">
                <a:moveTo>
                  <a:pt x="22895" y="11286"/>
                </a:moveTo>
                <a:cubicBezTo>
                  <a:pt x="22786" y="11231"/>
                  <a:pt x="23071" y="11203"/>
                  <a:pt x="23192" y="11187"/>
                </a:cubicBezTo>
                <a:cubicBezTo>
                  <a:pt x="23395" y="11160"/>
                  <a:pt x="23660" y="11126"/>
                  <a:pt x="23862" y="11187"/>
                </a:cubicBezTo>
                <a:cubicBezTo>
                  <a:pt x="23903" y="11207"/>
                  <a:pt x="23919" y="11205"/>
                  <a:pt x="23912" y="11237"/>
                </a:cubicBezTo>
              </a:path>
              <a:path w="1043" h="4069">
                <a:moveTo>
                  <a:pt x="23118" y="11609"/>
                </a:moveTo>
                <a:cubicBezTo>
                  <a:pt x="23082" y="11708"/>
                  <a:pt x="23039" y="11807"/>
                  <a:pt x="23019" y="11906"/>
                </a:cubicBezTo>
                <a:cubicBezTo>
                  <a:pt x="23211" y="11888"/>
                  <a:pt x="23402" y="11854"/>
                  <a:pt x="23589" y="11807"/>
                </a:cubicBezTo>
              </a:path>
              <a:path w="1043" h="4069">
                <a:moveTo>
                  <a:pt x="23465" y="11509"/>
                </a:moveTo>
                <a:cubicBezTo>
                  <a:pt x="23424" y="11755"/>
                  <a:pt x="23391" y="12005"/>
                  <a:pt x="23366" y="12254"/>
                </a:cubicBezTo>
                <a:cubicBezTo>
                  <a:pt x="23366" y="12303"/>
                  <a:pt x="23366" y="12320"/>
                  <a:pt x="23366" y="12353"/>
                </a:cubicBezTo>
              </a:path>
              <a:path w="1043" h="4069">
                <a:moveTo>
                  <a:pt x="23292" y="10269"/>
                </a:moveTo>
                <a:cubicBezTo>
                  <a:pt x="23377" y="10298"/>
                  <a:pt x="23239" y="10478"/>
                  <a:pt x="23217" y="10517"/>
                </a:cubicBezTo>
                <a:cubicBezTo>
                  <a:pt x="23162" y="10610"/>
                  <a:pt x="23163" y="10625"/>
                  <a:pt x="23118" y="10666"/>
                </a:cubicBezTo>
                <a:cubicBezTo>
                  <a:pt x="23276" y="10657"/>
                  <a:pt x="23432" y="10623"/>
                  <a:pt x="23589" y="10616"/>
                </a:cubicBezTo>
                <a:cubicBezTo>
                  <a:pt x="23606" y="10616"/>
                  <a:pt x="23622" y="10616"/>
                  <a:pt x="23639" y="10616"/>
                </a:cubicBezTo>
              </a:path>
              <a:path w="1043" h="4069">
                <a:moveTo>
                  <a:pt x="23738" y="9971"/>
                </a:moveTo>
                <a:cubicBezTo>
                  <a:pt x="23686" y="10203"/>
                  <a:pt x="23596" y="10433"/>
                  <a:pt x="23540" y="10666"/>
                </a:cubicBezTo>
                <a:cubicBezTo>
                  <a:pt x="23521" y="10747"/>
                  <a:pt x="23515" y="10898"/>
                  <a:pt x="23515" y="10815"/>
                </a:cubicBezTo>
              </a:path>
              <a:path w="1043" h="4069">
                <a:moveTo>
                  <a:pt x="23316" y="12477"/>
                </a:moveTo>
                <a:cubicBezTo>
                  <a:pt x="23297" y="12562"/>
                  <a:pt x="23305" y="12805"/>
                  <a:pt x="23292" y="12923"/>
                </a:cubicBezTo>
                <a:cubicBezTo>
                  <a:pt x="23256" y="13261"/>
                  <a:pt x="23188" y="13585"/>
                  <a:pt x="23118" y="13915"/>
                </a:cubicBezTo>
                <a:cubicBezTo>
                  <a:pt x="23118" y="13932"/>
                  <a:pt x="23118" y="13948"/>
                  <a:pt x="23118" y="13965"/>
                </a:cubicBezTo>
              </a:path>
              <a:path w="1043" h="4069">
                <a:moveTo>
                  <a:pt x="22920" y="13618"/>
                </a:moveTo>
                <a:cubicBezTo>
                  <a:pt x="22953" y="13753"/>
                  <a:pt x="23020" y="13895"/>
                  <a:pt x="23093" y="14015"/>
                </a:cubicBezTo>
                <a:cubicBezTo>
                  <a:pt x="23172" y="14144"/>
                  <a:pt x="23456" y="13776"/>
                  <a:pt x="23490" y="13742"/>
                </a:cubicBezTo>
                <a:cubicBezTo>
                  <a:pt x="23609" y="13623"/>
                  <a:pt x="23544" y="13631"/>
                  <a:pt x="23664" y="1361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1000" y="3786120"/>
            <a:ext cx="938160" cy="1312920"/>
          </a:xfrm>
          <a:custGeom>
            <a:avLst/>
            <a:gdLst/>
            <a:ahLst/>
            <a:rect l="l" t="t" r="r" b="b"/>
            <a:pathLst>
              <a:path w="2605" h="3647">
                <a:moveTo>
                  <a:pt x="12477" y="11509"/>
                </a:moveTo>
                <a:cubicBezTo>
                  <a:pt x="12749" y="11534"/>
                  <a:pt x="13022" y="11479"/>
                  <a:pt x="13295" y="11435"/>
                </a:cubicBezTo>
                <a:cubicBezTo>
                  <a:pt x="13394" y="11419"/>
                  <a:pt x="13478" y="11363"/>
                  <a:pt x="13494" y="11460"/>
                </a:cubicBezTo>
              </a:path>
              <a:path w="2605" h="3647">
                <a:moveTo>
                  <a:pt x="12923" y="11881"/>
                </a:moveTo>
                <a:cubicBezTo>
                  <a:pt x="12875" y="11866"/>
                  <a:pt x="12856" y="12078"/>
                  <a:pt x="12849" y="12154"/>
                </a:cubicBezTo>
                <a:cubicBezTo>
                  <a:pt x="12849" y="12187"/>
                  <a:pt x="12849" y="12221"/>
                  <a:pt x="12849" y="12254"/>
                </a:cubicBezTo>
                <a:cubicBezTo>
                  <a:pt x="12969" y="12241"/>
                  <a:pt x="13141" y="12224"/>
                  <a:pt x="13246" y="12154"/>
                </a:cubicBezTo>
                <a:cubicBezTo>
                  <a:pt x="13246" y="12146"/>
                  <a:pt x="13246" y="12137"/>
                  <a:pt x="13246" y="12129"/>
                </a:cubicBezTo>
              </a:path>
              <a:path w="2605" h="3647">
                <a:moveTo>
                  <a:pt x="13196" y="11782"/>
                </a:moveTo>
                <a:cubicBezTo>
                  <a:pt x="13196" y="12088"/>
                  <a:pt x="12967" y="12853"/>
                  <a:pt x="13196" y="12650"/>
                </a:cubicBezTo>
                <a:cubicBezTo>
                  <a:pt x="13269" y="12579"/>
                  <a:pt x="13300" y="12533"/>
                  <a:pt x="13320" y="12452"/>
                </a:cubicBezTo>
              </a:path>
              <a:path w="2605" h="3647">
                <a:moveTo>
                  <a:pt x="12874" y="10592"/>
                </a:moveTo>
                <a:cubicBezTo>
                  <a:pt x="12787" y="10563"/>
                  <a:pt x="13014" y="10518"/>
                  <a:pt x="13022" y="10517"/>
                </a:cubicBezTo>
                <a:cubicBezTo>
                  <a:pt x="13063" y="10517"/>
                  <a:pt x="13105" y="10517"/>
                  <a:pt x="13146" y="10517"/>
                </a:cubicBezTo>
                <a:cubicBezTo>
                  <a:pt x="13197" y="10748"/>
                  <a:pt x="13029" y="10858"/>
                  <a:pt x="12874" y="11013"/>
                </a:cubicBezTo>
                <a:cubicBezTo>
                  <a:pt x="12758" y="11129"/>
                  <a:pt x="12741" y="11146"/>
                  <a:pt x="12675" y="11212"/>
                </a:cubicBezTo>
                <a:cubicBezTo>
                  <a:pt x="12815" y="11202"/>
                  <a:pt x="12937" y="11156"/>
                  <a:pt x="13072" y="11137"/>
                </a:cubicBezTo>
              </a:path>
              <a:path w="2605" h="3647">
                <a:moveTo>
                  <a:pt x="13767" y="11559"/>
                </a:moveTo>
                <a:cubicBezTo>
                  <a:pt x="13852" y="11559"/>
                  <a:pt x="13960" y="11510"/>
                  <a:pt x="14039" y="11534"/>
                </a:cubicBezTo>
                <a:cubicBezTo>
                  <a:pt x="14039" y="11562"/>
                  <a:pt x="14037" y="11573"/>
                  <a:pt x="14015" y="11584"/>
                </a:cubicBezTo>
              </a:path>
              <a:path w="2605" h="3647">
                <a:moveTo>
                  <a:pt x="14734" y="10740"/>
                </a:moveTo>
                <a:cubicBezTo>
                  <a:pt x="14752" y="10972"/>
                  <a:pt x="14759" y="11201"/>
                  <a:pt x="14759" y="11435"/>
                </a:cubicBezTo>
                <a:cubicBezTo>
                  <a:pt x="14759" y="11509"/>
                  <a:pt x="14734" y="11542"/>
                  <a:pt x="14784" y="11534"/>
                </a:cubicBezTo>
              </a:path>
              <a:path w="2605" h="3647">
                <a:moveTo>
                  <a:pt x="14511" y="11956"/>
                </a:moveTo>
                <a:cubicBezTo>
                  <a:pt x="14670" y="11911"/>
                  <a:pt x="14828" y="11848"/>
                  <a:pt x="14982" y="11906"/>
                </a:cubicBezTo>
                <a:cubicBezTo>
                  <a:pt x="14918" y="12088"/>
                  <a:pt x="14798" y="12209"/>
                  <a:pt x="14709" y="12378"/>
                </a:cubicBezTo>
                <a:cubicBezTo>
                  <a:pt x="14709" y="12386"/>
                  <a:pt x="14709" y="12394"/>
                  <a:pt x="14709" y="12402"/>
                </a:cubicBezTo>
                <a:cubicBezTo>
                  <a:pt x="14844" y="12386"/>
                  <a:pt x="14952" y="12329"/>
                  <a:pt x="15081" y="12303"/>
                </a:cubicBezTo>
              </a:path>
              <a:path w="2605" h="3647">
                <a:moveTo>
                  <a:pt x="14560" y="12973"/>
                </a:moveTo>
                <a:cubicBezTo>
                  <a:pt x="14534" y="13243"/>
                  <a:pt x="14503" y="13524"/>
                  <a:pt x="14461" y="13791"/>
                </a:cubicBezTo>
                <a:cubicBezTo>
                  <a:pt x="14434" y="13960"/>
                  <a:pt x="14412" y="14009"/>
                  <a:pt x="14412" y="14163"/>
                </a:cubicBezTo>
              </a:path>
              <a:path w="2605" h="3647">
                <a:moveTo>
                  <a:pt x="14288" y="13767"/>
                </a:moveTo>
                <a:cubicBezTo>
                  <a:pt x="14304" y="13880"/>
                  <a:pt x="14325" y="14005"/>
                  <a:pt x="14362" y="14114"/>
                </a:cubicBezTo>
                <a:cubicBezTo>
                  <a:pt x="14370" y="14130"/>
                  <a:pt x="14379" y="14147"/>
                  <a:pt x="14387" y="14163"/>
                </a:cubicBezTo>
                <a:cubicBezTo>
                  <a:pt x="14514" y="14113"/>
                  <a:pt x="14584" y="13958"/>
                  <a:pt x="14684" y="13866"/>
                </a:cubicBezTo>
                <a:cubicBezTo>
                  <a:pt x="14701" y="13858"/>
                  <a:pt x="14717" y="13849"/>
                  <a:pt x="14734" y="1384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93920" y="4170240"/>
            <a:ext cx="4054320" cy="2598840"/>
          </a:xfrm>
          <a:custGeom>
            <a:avLst/>
            <a:gdLst/>
            <a:ahLst/>
            <a:rect l="l" t="t" r="r" b="b"/>
            <a:pathLst>
              <a:path w="11262" h="7219">
                <a:moveTo>
                  <a:pt x="13667" y="11807"/>
                </a:moveTo>
                <a:cubicBezTo>
                  <a:pt x="13786" y="11802"/>
                  <a:pt x="13897" y="11790"/>
                  <a:pt x="14015" y="11782"/>
                </a:cubicBezTo>
              </a:path>
              <a:path w="11262" h="7219">
                <a:moveTo>
                  <a:pt x="14362" y="11733"/>
                </a:moveTo>
                <a:cubicBezTo>
                  <a:pt x="14620" y="11690"/>
                  <a:pt x="14876" y="11645"/>
                  <a:pt x="15131" y="11584"/>
                </a:cubicBezTo>
              </a:path>
              <a:path w="11262" h="7219">
                <a:moveTo>
                  <a:pt x="3894" y="18777"/>
                </a:moveTo>
                <a:cubicBezTo>
                  <a:pt x="3886" y="18785"/>
                  <a:pt x="3878" y="18794"/>
                  <a:pt x="3870" y="188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6680" y="3786120"/>
            <a:ext cx="277560" cy="625680"/>
          </a:xfrm>
          <a:custGeom>
            <a:avLst/>
            <a:gdLst/>
            <a:ahLst/>
            <a:rect l="l" t="t" r="r" b="b"/>
            <a:pathLst>
              <a:path w="770" h="1738">
                <a:moveTo>
                  <a:pt x="7888" y="10517"/>
                </a:moveTo>
                <a:cubicBezTo>
                  <a:pt x="7905" y="10683"/>
                  <a:pt x="7947" y="10848"/>
                  <a:pt x="7962" y="11013"/>
                </a:cubicBezTo>
                <a:cubicBezTo>
                  <a:pt x="7962" y="11046"/>
                  <a:pt x="7962" y="11079"/>
                  <a:pt x="7962" y="11112"/>
                </a:cubicBezTo>
              </a:path>
              <a:path w="770" h="1738">
                <a:moveTo>
                  <a:pt x="7714" y="11485"/>
                </a:moveTo>
                <a:cubicBezTo>
                  <a:pt x="7951" y="11323"/>
                  <a:pt x="8182" y="11130"/>
                  <a:pt x="8458" y="11038"/>
                </a:cubicBezTo>
                <a:cubicBezTo>
                  <a:pt x="8466" y="11038"/>
                  <a:pt x="8475" y="11038"/>
                  <a:pt x="8483" y="11038"/>
                </a:cubicBezTo>
              </a:path>
              <a:path w="770" h="1738">
                <a:moveTo>
                  <a:pt x="7913" y="11609"/>
                </a:moveTo>
                <a:cubicBezTo>
                  <a:pt x="7902" y="11741"/>
                  <a:pt x="7874" y="11873"/>
                  <a:pt x="7863" y="12005"/>
                </a:cubicBezTo>
                <a:cubicBezTo>
                  <a:pt x="7942" y="11985"/>
                  <a:pt x="8194" y="11940"/>
                  <a:pt x="8235" y="11857"/>
                </a:cubicBezTo>
                <a:cubicBezTo>
                  <a:pt x="8235" y="11840"/>
                  <a:pt x="8235" y="11824"/>
                  <a:pt x="8235" y="11807"/>
                </a:cubicBezTo>
              </a:path>
              <a:path w="770" h="1738">
                <a:moveTo>
                  <a:pt x="8235" y="11460"/>
                </a:moveTo>
                <a:cubicBezTo>
                  <a:pt x="8209" y="11714"/>
                  <a:pt x="8227" y="11950"/>
                  <a:pt x="8235" y="12204"/>
                </a:cubicBezTo>
                <a:cubicBezTo>
                  <a:pt x="8235" y="12229"/>
                  <a:pt x="8235" y="12237"/>
                  <a:pt x="8235" y="1225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84960" y="3830760"/>
            <a:ext cx="268200" cy="669960"/>
          </a:xfrm>
          <a:custGeom>
            <a:avLst/>
            <a:gdLst/>
            <a:ahLst/>
            <a:rect l="l" t="t" r="r" b="b"/>
            <a:pathLst>
              <a:path w="745" h="1862">
                <a:moveTo>
                  <a:pt x="17983" y="10691"/>
                </a:moveTo>
                <a:cubicBezTo>
                  <a:pt x="18058" y="10641"/>
                  <a:pt x="18089" y="10647"/>
                  <a:pt x="18182" y="10641"/>
                </a:cubicBezTo>
                <a:cubicBezTo>
                  <a:pt x="18240" y="10848"/>
                  <a:pt x="18124" y="10855"/>
                  <a:pt x="18008" y="11013"/>
                </a:cubicBezTo>
                <a:cubicBezTo>
                  <a:pt x="18016" y="11013"/>
                  <a:pt x="18025" y="11013"/>
                  <a:pt x="18033" y="11013"/>
                </a:cubicBezTo>
                <a:cubicBezTo>
                  <a:pt x="18115" y="10988"/>
                  <a:pt x="18403" y="10942"/>
                  <a:pt x="18256" y="11137"/>
                </a:cubicBezTo>
                <a:cubicBezTo>
                  <a:pt x="18183" y="11233"/>
                  <a:pt x="17935" y="11378"/>
                  <a:pt x="17859" y="11361"/>
                </a:cubicBezTo>
              </a:path>
              <a:path w="745" h="1862">
                <a:moveTo>
                  <a:pt x="17735" y="11757"/>
                </a:moveTo>
                <a:cubicBezTo>
                  <a:pt x="17798" y="11736"/>
                  <a:pt x="18463" y="11484"/>
                  <a:pt x="18479" y="11534"/>
                </a:cubicBezTo>
                <a:cubicBezTo>
                  <a:pt x="18463" y="11559"/>
                  <a:pt x="18446" y="11584"/>
                  <a:pt x="18430" y="11609"/>
                </a:cubicBezTo>
              </a:path>
              <a:path w="745" h="1862">
                <a:moveTo>
                  <a:pt x="18033" y="11981"/>
                </a:moveTo>
                <a:cubicBezTo>
                  <a:pt x="18009" y="12081"/>
                  <a:pt x="17987" y="12180"/>
                  <a:pt x="17959" y="12278"/>
                </a:cubicBezTo>
                <a:cubicBezTo>
                  <a:pt x="18146" y="12247"/>
                  <a:pt x="18249" y="12203"/>
                  <a:pt x="18380" y="12080"/>
                </a:cubicBezTo>
              </a:path>
              <a:path w="745" h="1862">
                <a:moveTo>
                  <a:pt x="18306" y="11881"/>
                </a:moveTo>
                <a:cubicBezTo>
                  <a:pt x="18306" y="12041"/>
                  <a:pt x="18268" y="12194"/>
                  <a:pt x="18256" y="12353"/>
                </a:cubicBezTo>
                <a:cubicBezTo>
                  <a:pt x="18250" y="12438"/>
                  <a:pt x="18229" y="12485"/>
                  <a:pt x="18281" y="1250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nding a probabil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randomly choose a day of the week for sending an e-mail to your cousin. Find the probability that you select Tues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choosing Tuesday, written P(Tuesday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4419720"/>
          <a:ext cx="54734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419720"/>
                    <a:ext cx="54734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et’s discuss the following:  You roll a number cube. Find and describe the probability of the event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) you roll an even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) you roll a number less tha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) you roll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) you roll a number greater tha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65920" y="2027160"/>
            <a:ext cx="1384200" cy="544680"/>
          </a:xfrm>
          <a:custGeom>
            <a:avLst/>
            <a:gdLst/>
            <a:ahLst/>
            <a:rect l="l" t="t" r="r" b="b"/>
            <a:pathLst>
              <a:path w="3845" h="1514">
                <a:moveTo>
                  <a:pt x="16570" y="6499"/>
                </a:moveTo>
                <a:cubicBezTo>
                  <a:pt x="16902" y="6499"/>
                  <a:pt x="17231" y="6514"/>
                  <a:pt x="17562" y="6524"/>
                </a:cubicBezTo>
                <a:cubicBezTo>
                  <a:pt x="17727" y="6524"/>
                  <a:pt x="17744" y="6524"/>
                  <a:pt x="17835" y="6524"/>
                </a:cubicBezTo>
              </a:path>
              <a:path w="3845" h="1514">
                <a:moveTo>
                  <a:pt x="17140" y="6648"/>
                </a:moveTo>
                <a:cubicBezTo>
                  <a:pt x="17118" y="6757"/>
                  <a:pt x="17056" y="6854"/>
                  <a:pt x="17041" y="6970"/>
                </a:cubicBezTo>
                <a:cubicBezTo>
                  <a:pt x="17018" y="7152"/>
                  <a:pt x="17227" y="7154"/>
                  <a:pt x="17363" y="7119"/>
                </a:cubicBezTo>
                <a:cubicBezTo>
                  <a:pt x="17452" y="7074"/>
                  <a:pt x="17482" y="7068"/>
                  <a:pt x="17487" y="6995"/>
                </a:cubicBezTo>
                <a:cubicBezTo>
                  <a:pt x="17360" y="6926"/>
                  <a:pt x="17245" y="6877"/>
                  <a:pt x="17165" y="7045"/>
                </a:cubicBezTo>
                <a:cubicBezTo>
                  <a:pt x="17165" y="7086"/>
                  <a:pt x="17165" y="7094"/>
                  <a:pt x="17165" y="7119"/>
                </a:cubicBezTo>
              </a:path>
              <a:path w="3845" h="1514">
                <a:moveTo>
                  <a:pt x="17214" y="5705"/>
                </a:moveTo>
                <a:cubicBezTo>
                  <a:pt x="17154" y="5705"/>
                  <a:pt x="17360" y="5632"/>
                  <a:pt x="17363" y="5631"/>
                </a:cubicBezTo>
                <a:cubicBezTo>
                  <a:pt x="17380" y="5631"/>
                  <a:pt x="17396" y="5631"/>
                  <a:pt x="17413" y="5631"/>
                </a:cubicBezTo>
                <a:cubicBezTo>
                  <a:pt x="17400" y="5749"/>
                  <a:pt x="17384" y="5887"/>
                  <a:pt x="17264" y="5953"/>
                </a:cubicBezTo>
                <a:cubicBezTo>
                  <a:pt x="17264" y="5945"/>
                  <a:pt x="17264" y="5936"/>
                  <a:pt x="17264" y="5928"/>
                </a:cubicBezTo>
                <a:cubicBezTo>
                  <a:pt x="17358" y="5917"/>
                  <a:pt x="17687" y="5911"/>
                  <a:pt x="17562" y="6127"/>
                </a:cubicBezTo>
                <a:cubicBezTo>
                  <a:pt x="17490" y="6251"/>
                  <a:pt x="17295" y="6298"/>
                  <a:pt x="17214" y="6201"/>
                </a:cubicBezTo>
              </a:path>
              <a:path w="3845" h="1514">
                <a:moveTo>
                  <a:pt x="18579" y="6424"/>
                </a:moveTo>
                <a:cubicBezTo>
                  <a:pt x="18716" y="6424"/>
                  <a:pt x="18881" y="6403"/>
                  <a:pt x="19000" y="6449"/>
                </a:cubicBezTo>
              </a:path>
              <a:path w="3845" h="1514">
                <a:moveTo>
                  <a:pt x="20042" y="5804"/>
                </a:moveTo>
                <a:cubicBezTo>
                  <a:pt x="20067" y="5975"/>
                  <a:pt x="20113" y="6135"/>
                  <a:pt x="20067" y="6300"/>
                </a:cubicBezTo>
              </a:path>
              <a:path w="3845" h="1514">
                <a:moveTo>
                  <a:pt x="19720" y="6424"/>
                </a:moveTo>
                <a:cubicBezTo>
                  <a:pt x="19792" y="6409"/>
                  <a:pt x="20354" y="6263"/>
                  <a:pt x="20389" y="6325"/>
                </a:cubicBezTo>
                <a:cubicBezTo>
                  <a:pt x="20381" y="6350"/>
                  <a:pt x="20373" y="6375"/>
                  <a:pt x="20365" y="6400"/>
                </a:cubicBezTo>
              </a:path>
              <a:path w="3845" h="1514">
                <a:moveTo>
                  <a:pt x="19943" y="6623"/>
                </a:moveTo>
                <a:cubicBezTo>
                  <a:pt x="20078" y="6612"/>
                  <a:pt x="20227" y="6568"/>
                  <a:pt x="20315" y="6672"/>
                </a:cubicBezTo>
                <a:cubicBezTo>
                  <a:pt x="20189" y="6798"/>
                  <a:pt x="20054" y="6879"/>
                  <a:pt x="19918" y="6995"/>
                </a:cubicBezTo>
                <a:cubicBezTo>
                  <a:pt x="20079" y="6995"/>
                  <a:pt x="20231" y="6990"/>
                  <a:pt x="20389" y="6970"/>
                </a:cubicBezTo>
                <a:cubicBezTo>
                  <a:pt x="20414" y="6970"/>
                  <a:pt x="20422" y="6970"/>
                  <a:pt x="20414" y="69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30760" y="2340000"/>
            <a:ext cx="4179600" cy="3232080"/>
          </a:xfrm>
          <a:custGeom>
            <a:avLst/>
            <a:gdLst/>
            <a:ahLst/>
            <a:rect l="l" t="t" r="r" b="b"/>
            <a:pathLst>
              <a:path w="11610" h="8980">
                <a:moveTo>
                  <a:pt x="18628" y="6573"/>
                </a:moveTo>
                <a:cubicBezTo>
                  <a:pt x="18777" y="6548"/>
                  <a:pt x="18926" y="6524"/>
                  <a:pt x="19075" y="6499"/>
                </a:cubicBezTo>
              </a:path>
              <a:path w="11610" h="8980">
                <a:moveTo>
                  <a:pt x="20861" y="9277"/>
                </a:moveTo>
                <a:lnTo>
                  <a:pt x="20861" y="9277"/>
                </a:lnTo>
              </a:path>
              <a:path w="11610" h="8980">
                <a:moveTo>
                  <a:pt x="21654" y="9203"/>
                </a:moveTo>
                <a:cubicBezTo>
                  <a:pt x="21840" y="9183"/>
                  <a:pt x="22146" y="9083"/>
                  <a:pt x="22250" y="9227"/>
                </a:cubicBezTo>
              </a:path>
              <a:path w="11610" h="8980">
                <a:moveTo>
                  <a:pt x="10641" y="12353"/>
                </a:moveTo>
                <a:cubicBezTo>
                  <a:pt x="10954" y="12307"/>
                  <a:pt x="11270" y="12257"/>
                  <a:pt x="11584" y="12229"/>
                </a:cubicBezTo>
              </a:path>
              <a:path w="11610" h="8980">
                <a:moveTo>
                  <a:pt x="21183" y="15478"/>
                </a:moveTo>
                <a:cubicBezTo>
                  <a:pt x="21337" y="15452"/>
                  <a:pt x="21391" y="15442"/>
                  <a:pt x="21481" y="1537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67360" y="3089160"/>
            <a:ext cx="642960" cy="617760"/>
          </a:xfrm>
          <a:custGeom>
            <a:avLst/>
            <a:gdLst/>
            <a:ahLst/>
            <a:rect l="l" t="t" r="r" b="b"/>
            <a:pathLst>
              <a:path w="1787" h="1713">
                <a:moveTo>
                  <a:pt x="19075" y="9376"/>
                </a:moveTo>
                <a:cubicBezTo>
                  <a:pt x="19385" y="9355"/>
                  <a:pt x="19686" y="9340"/>
                  <a:pt x="19993" y="9376"/>
                </a:cubicBezTo>
                <a:cubicBezTo>
                  <a:pt x="20001" y="9376"/>
                  <a:pt x="20009" y="9376"/>
                  <a:pt x="20017" y="9376"/>
                </a:cubicBezTo>
              </a:path>
              <a:path w="1787" h="1713">
                <a:moveTo>
                  <a:pt x="19348" y="9798"/>
                </a:moveTo>
                <a:cubicBezTo>
                  <a:pt x="19338" y="9925"/>
                  <a:pt x="19242" y="10073"/>
                  <a:pt x="19273" y="10195"/>
                </a:cubicBezTo>
                <a:cubicBezTo>
                  <a:pt x="19318" y="10373"/>
                  <a:pt x="19620" y="10283"/>
                  <a:pt x="19720" y="10244"/>
                </a:cubicBezTo>
                <a:cubicBezTo>
                  <a:pt x="19785" y="10201"/>
                  <a:pt x="19814" y="10195"/>
                  <a:pt x="19769" y="10145"/>
                </a:cubicBezTo>
                <a:cubicBezTo>
                  <a:pt x="19664" y="10113"/>
                  <a:pt x="19586" y="10096"/>
                  <a:pt x="19521" y="10195"/>
                </a:cubicBezTo>
                <a:cubicBezTo>
                  <a:pt x="19501" y="10235"/>
                  <a:pt x="19492" y="10261"/>
                  <a:pt x="19496" y="10220"/>
                </a:cubicBezTo>
              </a:path>
              <a:path w="1787" h="1713">
                <a:moveTo>
                  <a:pt x="19472" y="8706"/>
                </a:moveTo>
                <a:cubicBezTo>
                  <a:pt x="19564" y="8601"/>
                  <a:pt x="19650" y="8594"/>
                  <a:pt x="19794" y="8582"/>
                </a:cubicBezTo>
                <a:cubicBezTo>
                  <a:pt x="19741" y="8680"/>
                  <a:pt x="19646" y="8748"/>
                  <a:pt x="19596" y="8830"/>
                </a:cubicBezTo>
                <a:cubicBezTo>
                  <a:pt x="19651" y="8815"/>
                  <a:pt x="19974" y="8817"/>
                  <a:pt x="19819" y="8954"/>
                </a:cubicBezTo>
                <a:cubicBezTo>
                  <a:pt x="19758" y="9007"/>
                  <a:pt x="19404" y="9121"/>
                  <a:pt x="19571" y="8954"/>
                </a:cubicBezTo>
              </a:path>
              <a:path w="1787" h="1713">
                <a:moveTo>
                  <a:pt x="20563" y="9054"/>
                </a:moveTo>
                <a:cubicBezTo>
                  <a:pt x="20679" y="9075"/>
                  <a:pt x="20828" y="9035"/>
                  <a:pt x="20811" y="9153"/>
                </a:cubicBezTo>
              </a:path>
              <a:path w="1787" h="1713">
                <a:moveTo>
                  <a:pt x="20464" y="9327"/>
                </a:moveTo>
                <a:cubicBezTo>
                  <a:pt x="20599" y="9319"/>
                  <a:pt x="20727" y="9300"/>
                  <a:pt x="20861" y="927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67800" y="3098880"/>
            <a:ext cx="196560" cy="490320"/>
          </a:xfrm>
          <a:custGeom>
            <a:avLst/>
            <a:gdLst/>
            <a:ahLst/>
            <a:rect l="l" t="t" r="r" b="b"/>
            <a:pathLst>
              <a:path w="547" h="1365">
                <a:moveTo>
                  <a:pt x="21878" y="8607"/>
                </a:moveTo>
                <a:cubicBezTo>
                  <a:pt x="21885" y="8759"/>
                  <a:pt x="21909" y="8904"/>
                  <a:pt x="21927" y="9054"/>
                </a:cubicBezTo>
              </a:path>
              <a:path w="547" h="1365">
                <a:moveTo>
                  <a:pt x="21903" y="9500"/>
                </a:moveTo>
                <a:cubicBezTo>
                  <a:pt x="22011" y="9505"/>
                  <a:pt x="22094" y="9512"/>
                  <a:pt x="22200" y="9525"/>
                </a:cubicBezTo>
                <a:cubicBezTo>
                  <a:pt x="22129" y="9702"/>
                  <a:pt x="21963" y="9782"/>
                  <a:pt x="21853" y="9947"/>
                </a:cubicBezTo>
                <a:cubicBezTo>
                  <a:pt x="21853" y="9955"/>
                  <a:pt x="21853" y="9963"/>
                  <a:pt x="21853" y="9971"/>
                </a:cubicBezTo>
                <a:cubicBezTo>
                  <a:pt x="22021" y="9964"/>
                  <a:pt x="22237" y="9903"/>
                  <a:pt x="22399" y="9922"/>
                </a:cubicBezTo>
                <a:cubicBezTo>
                  <a:pt x="22399" y="9930"/>
                  <a:pt x="22399" y="9939"/>
                  <a:pt x="22399" y="994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6680" y="4214880"/>
            <a:ext cx="179280" cy="536400"/>
          </a:xfrm>
          <a:custGeom>
            <a:avLst/>
            <a:gdLst/>
            <a:ahLst/>
            <a:rect l="l" t="t" r="r" b="b"/>
            <a:pathLst>
              <a:path w="497" h="1489">
                <a:moveTo>
                  <a:pt x="10988" y="11708"/>
                </a:moveTo>
                <a:cubicBezTo>
                  <a:pt x="11005" y="11895"/>
                  <a:pt x="11053" y="12069"/>
                  <a:pt x="11013" y="12254"/>
                </a:cubicBezTo>
                <a:cubicBezTo>
                  <a:pt x="11005" y="12270"/>
                  <a:pt x="10996" y="12287"/>
                  <a:pt x="10988" y="12303"/>
                </a:cubicBezTo>
              </a:path>
              <a:path w="497" h="1489">
                <a:moveTo>
                  <a:pt x="11013" y="12650"/>
                </a:moveTo>
                <a:cubicBezTo>
                  <a:pt x="11041" y="12570"/>
                  <a:pt x="11002" y="12740"/>
                  <a:pt x="10988" y="12824"/>
                </a:cubicBezTo>
                <a:cubicBezTo>
                  <a:pt x="10963" y="12979"/>
                  <a:pt x="10945" y="13219"/>
                  <a:pt x="11187" y="13196"/>
                </a:cubicBezTo>
                <a:cubicBezTo>
                  <a:pt x="11329" y="13183"/>
                  <a:pt x="11425" y="13070"/>
                  <a:pt x="11460" y="12948"/>
                </a:cubicBezTo>
                <a:cubicBezTo>
                  <a:pt x="11322" y="12939"/>
                  <a:pt x="11187" y="12958"/>
                  <a:pt x="11187" y="13146"/>
                </a:cubicBezTo>
                <a:cubicBezTo>
                  <a:pt x="11195" y="13154"/>
                  <a:pt x="11204" y="13163"/>
                  <a:pt x="11212" y="131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5268960"/>
            <a:ext cx="866880" cy="500040"/>
          </a:xfrm>
          <a:custGeom>
            <a:avLst/>
            <a:gdLst/>
            <a:ahLst/>
            <a:rect l="l" t="t" r="r" b="b"/>
            <a:pathLst>
              <a:path w="2407" h="1390">
                <a:moveTo>
                  <a:pt x="20067" y="14684"/>
                </a:moveTo>
                <a:cubicBezTo>
                  <a:pt x="20127" y="14677"/>
                  <a:pt x="20598" y="14620"/>
                  <a:pt x="20340" y="14808"/>
                </a:cubicBezTo>
                <a:cubicBezTo>
                  <a:pt x="20290" y="14833"/>
                  <a:pt x="20241" y="14858"/>
                  <a:pt x="20191" y="14883"/>
                </a:cubicBezTo>
                <a:cubicBezTo>
                  <a:pt x="20166" y="14891"/>
                  <a:pt x="20142" y="14900"/>
                  <a:pt x="20117" y="14908"/>
                </a:cubicBezTo>
                <a:cubicBezTo>
                  <a:pt x="20199" y="14908"/>
                  <a:pt x="20453" y="14922"/>
                  <a:pt x="20439" y="15056"/>
                </a:cubicBezTo>
                <a:cubicBezTo>
                  <a:pt x="20422" y="15211"/>
                  <a:pt x="20116" y="15180"/>
                  <a:pt x="20042" y="15156"/>
                </a:cubicBezTo>
              </a:path>
              <a:path w="2407" h="1390">
                <a:moveTo>
                  <a:pt x="20042" y="15304"/>
                </a:moveTo>
                <a:cubicBezTo>
                  <a:pt x="20186" y="15304"/>
                  <a:pt x="20673" y="15270"/>
                  <a:pt x="20712" y="15329"/>
                </a:cubicBezTo>
              </a:path>
              <a:path w="2407" h="1390">
                <a:moveTo>
                  <a:pt x="20241" y="15577"/>
                </a:moveTo>
                <a:cubicBezTo>
                  <a:pt x="20131" y="15687"/>
                  <a:pt x="20094" y="15733"/>
                  <a:pt x="20042" y="15875"/>
                </a:cubicBezTo>
                <a:cubicBezTo>
                  <a:pt x="20189" y="16061"/>
                  <a:pt x="20323" y="16055"/>
                  <a:pt x="20538" y="15925"/>
                </a:cubicBezTo>
                <a:cubicBezTo>
                  <a:pt x="20710" y="15821"/>
                  <a:pt x="20378" y="15868"/>
                  <a:pt x="20315" y="15900"/>
                </a:cubicBezTo>
                <a:cubicBezTo>
                  <a:pt x="20391" y="16001"/>
                  <a:pt x="20418" y="15913"/>
                  <a:pt x="20538" y="15850"/>
                </a:cubicBezTo>
              </a:path>
              <a:path w="2407" h="1390">
                <a:moveTo>
                  <a:pt x="21183" y="15329"/>
                </a:moveTo>
                <a:cubicBezTo>
                  <a:pt x="21249" y="15315"/>
                  <a:pt x="21349" y="15304"/>
                  <a:pt x="21282" y="15304"/>
                </a:cubicBezTo>
              </a:path>
              <a:path w="2407" h="1390">
                <a:moveTo>
                  <a:pt x="22051" y="14635"/>
                </a:moveTo>
                <a:cubicBezTo>
                  <a:pt x="22059" y="14786"/>
                  <a:pt x="22090" y="14931"/>
                  <a:pt x="22101" y="15081"/>
                </a:cubicBezTo>
              </a:path>
              <a:path w="2407" h="1390">
                <a:moveTo>
                  <a:pt x="21779" y="15304"/>
                </a:moveTo>
                <a:cubicBezTo>
                  <a:pt x="21967" y="15259"/>
                  <a:pt x="22164" y="15199"/>
                  <a:pt x="22349" y="15230"/>
                </a:cubicBezTo>
              </a:path>
              <a:path w="2407" h="1390">
                <a:moveTo>
                  <a:pt x="22051" y="15553"/>
                </a:moveTo>
                <a:cubicBezTo>
                  <a:pt x="22158" y="15534"/>
                  <a:pt x="22220" y="15524"/>
                  <a:pt x="22324" y="15553"/>
                </a:cubicBezTo>
                <a:cubicBezTo>
                  <a:pt x="22231" y="15703"/>
                  <a:pt x="22094" y="15765"/>
                  <a:pt x="21952" y="15875"/>
                </a:cubicBezTo>
                <a:cubicBezTo>
                  <a:pt x="22096" y="15891"/>
                  <a:pt x="22306" y="15898"/>
                  <a:pt x="22448" y="15850"/>
                </a:cubicBezTo>
                <a:cubicBezTo>
                  <a:pt x="22448" y="15825"/>
                  <a:pt x="22448" y="15817"/>
                  <a:pt x="22448" y="1585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ressing your 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get your results as a fraction you can express them as a decimal or as a percent. Let’s practi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) The probability of an even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  How would you change this to a decimal and a perc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715000" y="3276720"/>
          <a:ext cx="39996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76720"/>
                    <a:ext cx="3999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312920" y="4500720"/>
            <a:ext cx="330120" cy="679320"/>
          </a:xfrm>
          <a:custGeom>
            <a:avLst/>
            <a:gdLst/>
            <a:ahLst/>
            <a:rect l="l" t="t" r="r" b="b"/>
            <a:pathLst>
              <a:path w="919" h="1886">
                <a:moveTo>
                  <a:pt x="3746" y="12750"/>
                </a:moveTo>
                <a:cubicBezTo>
                  <a:pt x="3746" y="12705"/>
                  <a:pt x="3727" y="12932"/>
                  <a:pt x="3721" y="12973"/>
                </a:cubicBezTo>
                <a:cubicBezTo>
                  <a:pt x="3703" y="13099"/>
                  <a:pt x="4097" y="12938"/>
                  <a:pt x="4142" y="12923"/>
                </a:cubicBezTo>
              </a:path>
              <a:path w="919" h="1886">
                <a:moveTo>
                  <a:pt x="4043" y="12502"/>
                </a:moveTo>
                <a:cubicBezTo>
                  <a:pt x="4058" y="12714"/>
                  <a:pt x="4152" y="12960"/>
                  <a:pt x="4118" y="13171"/>
                </a:cubicBezTo>
                <a:cubicBezTo>
                  <a:pt x="4110" y="13179"/>
                  <a:pt x="4101" y="13188"/>
                  <a:pt x="4093" y="13196"/>
                </a:cubicBezTo>
              </a:path>
              <a:path w="919" h="1886">
                <a:moveTo>
                  <a:pt x="3696" y="13444"/>
                </a:moveTo>
                <a:cubicBezTo>
                  <a:pt x="3902" y="13400"/>
                  <a:pt x="4432" y="13243"/>
                  <a:pt x="4539" y="13295"/>
                </a:cubicBezTo>
              </a:path>
              <a:path w="919" h="1886">
                <a:moveTo>
                  <a:pt x="3696" y="13940"/>
                </a:moveTo>
                <a:cubicBezTo>
                  <a:pt x="3682" y="14047"/>
                  <a:pt x="3549" y="14459"/>
                  <a:pt x="3696" y="14312"/>
                </a:cubicBezTo>
              </a:path>
              <a:path w="919" h="1886">
                <a:moveTo>
                  <a:pt x="4167" y="13866"/>
                </a:moveTo>
                <a:cubicBezTo>
                  <a:pt x="4100" y="14045"/>
                  <a:pt x="4079" y="14091"/>
                  <a:pt x="4068" y="14213"/>
                </a:cubicBezTo>
                <a:cubicBezTo>
                  <a:pt x="4211" y="14236"/>
                  <a:pt x="4607" y="14183"/>
                  <a:pt x="4564" y="13915"/>
                </a:cubicBezTo>
                <a:cubicBezTo>
                  <a:pt x="4542" y="13779"/>
                  <a:pt x="4287" y="13765"/>
                  <a:pt x="4192" y="1374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4822920"/>
            <a:ext cx="144360" cy="17280"/>
          </a:xfrm>
          <a:custGeom>
            <a:avLst/>
            <a:gdLst/>
            <a:ahLst/>
            <a:rect l="l" t="t" r="r" b="b"/>
            <a:pathLst>
              <a:path w="398" h="50">
                <a:moveTo>
                  <a:pt x="5209" y="13444"/>
                </a:moveTo>
                <a:cubicBezTo>
                  <a:pt x="5342" y="13423"/>
                  <a:pt x="5472" y="13403"/>
                  <a:pt x="5606" y="1339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05200"/>
            <a:ext cx="196920" cy="268560"/>
          </a:xfrm>
          <a:custGeom>
            <a:avLst/>
            <a:gdLst/>
            <a:ahLst/>
            <a:rect l="l" t="t" r="r" b="b"/>
            <a:pathLst>
              <a:path w="547" h="745">
                <a:moveTo>
                  <a:pt x="6846" y="13072"/>
                </a:moveTo>
                <a:cubicBezTo>
                  <a:pt x="6606" y="13245"/>
                  <a:pt x="6562" y="13483"/>
                  <a:pt x="6499" y="13767"/>
                </a:cubicBezTo>
                <a:cubicBezTo>
                  <a:pt x="6688" y="13790"/>
                  <a:pt x="7119" y="13728"/>
                  <a:pt x="7045" y="13395"/>
                </a:cubicBezTo>
                <a:cubicBezTo>
                  <a:pt x="7017" y="13272"/>
                  <a:pt x="6866" y="13165"/>
                  <a:pt x="6846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68800" y="4795920"/>
            <a:ext cx="204480" cy="88920"/>
          </a:xfrm>
          <a:custGeom>
            <a:avLst/>
            <a:gdLst/>
            <a:ahLst/>
            <a:rect l="l" t="t" r="r" b="b"/>
            <a:pathLst>
              <a:path w="571" h="249">
                <a:moveTo>
                  <a:pt x="9079" y="13370"/>
                </a:moveTo>
                <a:cubicBezTo>
                  <a:pt x="9204" y="13338"/>
                  <a:pt x="9351" y="13324"/>
                  <a:pt x="9475" y="13345"/>
                </a:cubicBezTo>
              </a:path>
              <a:path w="571" h="249">
                <a:moveTo>
                  <a:pt x="9302" y="13568"/>
                </a:moveTo>
                <a:cubicBezTo>
                  <a:pt x="9475" y="13519"/>
                  <a:pt x="9533" y="13502"/>
                  <a:pt x="9649" y="1346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848120"/>
            <a:ext cx="1562040" cy="73080"/>
          </a:xfrm>
          <a:custGeom>
            <a:avLst/>
            <a:gdLst/>
            <a:ahLst/>
            <a:rect l="l" t="t" r="r" b="b"/>
            <a:pathLst>
              <a:path w="4342" h="199">
                <a:moveTo>
                  <a:pt x="5308" y="13667"/>
                </a:moveTo>
                <a:cubicBezTo>
                  <a:pt x="5500" y="13644"/>
                  <a:pt x="5560" y="13638"/>
                  <a:pt x="5680" y="13593"/>
                </a:cubicBezTo>
              </a:path>
              <a:path w="4342" h="199">
                <a:moveTo>
                  <a:pt x="7367" y="13643"/>
                </a:moveTo>
                <a:lnTo>
                  <a:pt x="7367" y="13643"/>
                </a:lnTo>
                <a:lnTo>
                  <a:pt x="7367" y="13643"/>
                </a:lnTo>
              </a:path>
              <a:path w="4342" h="199">
                <a:moveTo>
                  <a:pt x="7367" y="13643"/>
                </a:moveTo>
                <a:lnTo>
                  <a:pt x="7367" y="13643"/>
                </a:lnTo>
              </a:path>
              <a:path w="4342" h="199">
                <a:moveTo>
                  <a:pt x="9649" y="13469"/>
                </a:moveTo>
                <a:lnTo>
                  <a:pt x="9649" y="13469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1760" y="4660920"/>
            <a:ext cx="160200" cy="260280"/>
          </a:xfrm>
          <a:custGeom>
            <a:avLst/>
            <a:gdLst/>
            <a:ahLst/>
            <a:rect l="l" t="t" r="r" b="b"/>
            <a:pathLst>
              <a:path w="448" h="720">
                <a:moveTo>
                  <a:pt x="7615" y="13221"/>
                </a:moveTo>
                <a:cubicBezTo>
                  <a:pt x="7615" y="13287"/>
                  <a:pt x="7615" y="13353"/>
                  <a:pt x="7615" y="13419"/>
                </a:cubicBezTo>
                <a:cubicBezTo>
                  <a:pt x="7802" y="13470"/>
                  <a:pt x="7876" y="13438"/>
                  <a:pt x="8012" y="13320"/>
                </a:cubicBezTo>
              </a:path>
              <a:path w="448" h="720">
                <a:moveTo>
                  <a:pt x="7888" y="12948"/>
                </a:moveTo>
                <a:cubicBezTo>
                  <a:pt x="7951" y="13176"/>
                  <a:pt x="8001" y="13409"/>
                  <a:pt x="8037" y="13643"/>
                </a:cubicBezTo>
                <a:cubicBezTo>
                  <a:pt x="8037" y="13667"/>
                  <a:pt x="8037" y="13675"/>
                  <a:pt x="8062" y="1366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1840" y="4616280"/>
            <a:ext cx="652320" cy="304920"/>
          </a:xfrm>
          <a:custGeom>
            <a:avLst/>
            <a:gdLst/>
            <a:ahLst/>
            <a:rect l="l" t="t" r="r" b="b"/>
            <a:pathLst>
              <a:path w="1812" h="844">
                <a:moveTo>
                  <a:pt x="10468" y="13146"/>
                </a:moveTo>
                <a:cubicBezTo>
                  <a:pt x="10444" y="13242"/>
                  <a:pt x="10438" y="13271"/>
                  <a:pt x="10393" y="13320"/>
                </a:cubicBezTo>
                <a:cubicBezTo>
                  <a:pt x="10553" y="13337"/>
                  <a:pt x="10771" y="13390"/>
                  <a:pt x="10889" y="13295"/>
                </a:cubicBezTo>
              </a:path>
              <a:path w="1812" h="844">
                <a:moveTo>
                  <a:pt x="10716" y="12923"/>
                </a:moveTo>
                <a:cubicBezTo>
                  <a:pt x="10726" y="13017"/>
                  <a:pt x="10708" y="13620"/>
                  <a:pt x="10740" y="13643"/>
                </a:cubicBezTo>
                <a:cubicBezTo>
                  <a:pt x="10748" y="13626"/>
                  <a:pt x="10757" y="13610"/>
                  <a:pt x="10765" y="13593"/>
                </a:cubicBezTo>
              </a:path>
              <a:path w="1812" h="844">
                <a:moveTo>
                  <a:pt x="11311" y="12898"/>
                </a:moveTo>
                <a:cubicBezTo>
                  <a:pt x="11129" y="13057"/>
                  <a:pt x="11081" y="13154"/>
                  <a:pt x="11261" y="13320"/>
                </a:cubicBezTo>
                <a:cubicBezTo>
                  <a:pt x="11468" y="13144"/>
                  <a:pt x="11388" y="13107"/>
                  <a:pt x="11261" y="12898"/>
                </a:cubicBezTo>
                <a:cubicBezTo>
                  <a:pt x="11261" y="12890"/>
                  <a:pt x="11261" y="12882"/>
                  <a:pt x="11261" y="12874"/>
                </a:cubicBezTo>
                <a:cubicBezTo>
                  <a:pt x="11403" y="12850"/>
                  <a:pt x="11697" y="12765"/>
                  <a:pt x="11757" y="12998"/>
                </a:cubicBezTo>
                <a:cubicBezTo>
                  <a:pt x="11814" y="13220"/>
                  <a:pt x="11623" y="13473"/>
                  <a:pt x="11509" y="13643"/>
                </a:cubicBezTo>
              </a:path>
              <a:path w="1812" h="844">
                <a:moveTo>
                  <a:pt x="12005" y="13395"/>
                </a:moveTo>
                <a:cubicBezTo>
                  <a:pt x="11940" y="13524"/>
                  <a:pt x="11921" y="13554"/>
                  <a:pt x="11906" y="13643"/>
                </a:cubicBezTo>
                <a:cubicBezTo>
                  <a:pt x="11988" y="13654"/>
                  <a:pt x="12337" y="13632"/>
                  <a:pt x="12204" y="13444"/>
                </a:cubicBezTo>
                <a:cubicBezTo>
                  <a:pt x="12100" y="13393"/>
                  <a:pt x="12062" y="13375"/>
                  <a:pt x="11981" y="13370"/>
                </a:cubicBezTo>
              </a:path>
              <a:path w="1812" h="844">
                <a:moveTo>
                  <a:pt x="11038" y="13196"/>
                </a:moveTo>
                <a:cubicBezTo>
                  <a:pt x="11094" y="13215"/>
                  <a:pt x="11020" y="13314"/>
                  <a:pt x="11013" y="13370"/>
                </a:cubicBezTo>
                <a:cubicBezTo>
                  <a:pt x="11001" y="13473"/>
                  <a:pt x="10976" y="13638"/>
                  <a:pt x="11112" y="13667"/>
                </a:cubicBezTo>
                <a:cubicBezTo>
                  <a:pt x="11221" y="13690"/>
                  <a:pt x="11300" y="13513"/>
                  <a:pt x="11261" y="13419"/>
                </a:cubicBezTo>
                <a:cubicBezTo>
                  <a:pt x="11240" y="13368"/>
                  <a:pt x="11130" y="13288"/>
                  <a:pt x="11088" y="132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nine is practicing her basketball shooting. She took 25 practice shots and her results are listed be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Missed Missed Made Made Missed Made Made Missed Missed Missed Made Made Made Made Made Missed Made Missed Made Made Made Missed Made Mi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the results, what is the experimental probability she will make the next shot written all 3 w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6120" y="1677960"/>
            <a:ext cx="2071800" cy="393840"/>
          </a:xfrm>
          <a:custGeom>
            <a:avLst/>
            <a:gdLst/>
            <a:ahLst/>
            <a:rect l="l" t="t" r="r" b="b"/>
            <a:pathLst>
              <a:path w="5756" h="1093">
                <a:moveTo>
                  <a:pt x="17016" y="4936"/>
                </a:moveTo>
                <a:cubicBezTo>
                  <a:pt x="17073" y="4917"/>
                  <a:pt x="17080" y="4908"/>
                  <a:pt x="17115" y="4911"/>
                </a:cubicBezTo>
              </a:path>
              <a:path w="5756" h="1093">
                <a:moveTo>
                  <a:pt x="19397" y="4688"/>
                </a:moveTo>
                <a:cubicBezTo>
                  <a:pt x="19447" y="4680"/>
                  <a:pt x="19496" y="4671"/>
                  <a:pt x="19546" y="4663"/>
                </a:cubicBezTo>
              </a:path>
              <a:path w="5756" h="1093">
                <a:moveTo>
                  <a:pt x="19546" y="4663"/>
                </a:moveTo>
                <a:lnTo>
                  <a:pt x="19546" y="4663"/>
                </a:lnTo>
              </a:path>
              <a:path w="5756" h="1093">
                <a:moveTo>
                  <a:pt x="21332" y="4787"/>
                </a:moveTo>
                <a:cubicBezTo>
                  <a:pt x="21458" y="4762"/>
                  <a:pt x="21502" y="4752"/>
                  <a:pt x="21580" y="4713"/>
                </a:cubicBezTo>
              </a:path>
              <a:path w="5756" h="1093">
                <a:moveTo>
                  <a:pt x="21580" y="4713"/>
                </a:moveTo>
                <a:lnTo>
                  <a:pt x="21580" y="4713"/>
                </a:lnTo>
              </a:path>
              <a:path w="5756" h="1093">
                <a:moveTo>
                  <a:pt x="22771" y="5730"/>
                </a:moveTo>
                <a:cubicBezTo>
                  <a:pt x="22771" y="5738"/>
                  <a:pt x="22771" y="5747"/>
                  <a:pt x="22771" y="575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54840" y="1251000"/>
            <a:ext cx="2867040" cy="1616040"/>
          </a:xfrm>
          <a:custGeom>
            <a:avLst/>
            <a:gdLst/>
            <a:ahLst/>
            <a:rect l="l" t="t" r="r" b="b"/>
            <a:pathLst>
              <a:path w="7963" h="4490">
                <a:moveTo>
                  <a:pt x="16842" y="4589"/>
                </a:moveTo>
                <a:cubicBezTo>
                  <a:pt x="17136" y="4547"/>
                  <a:pt x="17438" y="4565"/>
                  <a:pt x="17735" y="4539"/>
                </a:cubicBezTo>
                <a:cubicBezTo>
                  <a:pt x="17815" y="4532"/>
                  <a:pt x="17901" y="4475"/>
                  <a:pt x="17859" y="4539"/>
                </a:cubicBezTo>
              </a:path>
              <a:path w="7963" h="4490">
                <a:moveTo>
                  <a:pt x="17140" y="4911"/>
                </a:moveTo>
                <a:cubicBezTo>
                  <a:pt x="17233" y="5088"/>
                  <a:pt x="17233" y="5263"/>
                  <a:pt x="16966" y="5308"/>
                </a:cubicBezTo>
                <a:cubicBezTo>
                  <a:pt x="16872" y="5289"/>
                  <a:pt x="16853" y="5303"/>
                  <a:pt x="16818" y="5259"/>
                </a:cubicBezTo>
                <a:cubicBezTo>
                  <a:pt x="16879" y="5155"/>
                  <a:pt x="16982" y="5107"/>
                  <a:pt x="17115" y="5184"/>
                </a:cubicBezTo>
                <a:cubicBezTo>
                  <a:pt x="17115" y="5212"/>
                  <a:pt x="17117" y="5223"/>
                  <a:pt x="17140" y="5234"/>
                </a:cubicBezTo>
              </a:path>
              <a:path w="7963" h="4490">
                <a:moveTo>
                  <a:pt x="17636" y="4837"/>
                </a:moveTo>
                <a:cubicBezTo>
                  <a:pt x="17614" y="4820"/>
                  <a:pt x="17571" y="4793"/>
                  <a:pt x="17537" y="4812"/>
                </a:cubicBezTo>
                <a:cubicBezTo>
                  <a:pt x="17492" y="4837"/>
                  <a:pt x="17431" y="4949"/>
                  <a:pt x="17413" y="4986"/>
                </a:cubicBezTo>
                <a:cubicBezTo>
                  <a:pt x="17510" y="5000"/>
                  <a:pt x="17665" y="5005"/>
                  <a:pt x="17735" y="5085"/>
                </a:cubicBezTo>
                <a:cubicBezTo>
                  <a:pt x="17857" y="5226"/>
                  <a:pt x="17614" y="5313"/>
                  <a:pt x="17512" y="5283"/>
                </a:cubicBezTo>
                <a:cubicBezTo>
                  <a:pt x="17407" y="5220"/>
                  <a:pt x="17373" y="5217"/>
                  <a:pt x="17363" y="5135"/>
                </a:cubicBezTo>
              </a:path>
              <a:path w="7963" h="4490">
                <a:moveTo>
                  <a:pt x="17066" y="3969"/>
                </a:moveTo>
                <a:cubicBezTo>
                  <a:pt x="17097" y="4084"/>
                  <a:pt x="17104" y="4204"/>
                  <a:pt x="17090" y="4316"/>
                </a:cubicBezTo>
                <a:cubicBezTo>
                  <a:pt x="17090" y="4341"/>
                  <a:pt x="17090" y="4349"/>
                  <a:pt x="17090" y="4366"/>
                </a:cubicBezTo>
              </a:path>
              <a:path w="7963" h="4490">
                <a:moveTo>
                  <a:pt x="17289" y="3969"/>
                </a:moveTo>
                <a:cubicBezTo>
                  <a:pt x="17289" y="4090"/>
                  <a:pt x="17373" y="4052"/>
                  <a:pt x="17462" y="4142"/>
                </a:cubicBezTo>
                <a:cubicBezTo>
                  <a:pt x="17523" y="4203"/>
                  <a:pt x="17537" y="4287"/>
                  <a:pt x="17438" y="4316"/>
                </a:cubicBezTo>
                <a:cubicBezTo>
                  <a:pt x="17360" y="4339"/>
                  <a:pt x="17355" y="4318"/>
                  <a:pt x="17338" y="4266"/>
                </a:cubicBezTo>
              </a:path>
              <a:path w="7963" h="4490">
                <a:moveTo>
                  <a:pt x="17314" y="3994"/>
                </a:moveTo>
                <a:cubicBezTo>
                  <a:pt x="17380" y="3956"/>
                  <a:pt x="17459" y="3932"/>
                  <a:pt x="17537" y="3919"/>
                </a:cubicBezTo>
              </a:path>
              <a:path w="7963" h="4490">
                <a:moveTo>
                  <a:pt x="18355" y="4440"/>
                </a:moveTo>
                <a:cubicBezTo>
                  <a:pt x="18385" y="4550"/>
                  <a:pt x="18450" y="4655"/>
                  <a:pt x="18504" y="4762"/>
                </a:cubicBezTo>
              </a:path>
              <a:path w="7963" h="4490">
                <a:moveTo>
                  <a:pt x="18529" y="4366"/>
                </a:moveTo>
                <a:cubicBezTo>
                  <a:pt x="18455" y="4440"/>
                  <a:pt x="18429" y="4643"/>
                  <a:pt x="18380" y="4762"/>
                </a:cubicBezTo>
                <a:cubicBezTo>
                  <a:pt x="18352" y="4818"/>
                  <a:pt x="18350" y="4834"/>
                  <a:pt x="18430" y="4812"/>
                </a:cubicBezTo>
              </a:path>
              <a:path w="7963" h="4490">
                <a:moveTo>
                  <a:pt x="18876" y="4812"/>
                </a:moveTo>
                <a:cubicBezTo>
                  <a:pt x="18879" y="4836"/>
                  <a:pt x="18886" y="4977"/>
                  <a:pt x="18901" y="4986"/>
                </a:cubicBezTo>
                <a:cubicBezTo>
                  <a:pt x="19028" y="5062"/>
                  <a:pt x="19073" y="4963"/>
                  <a:pt x="19149" y="4887"/>
                </a:cubicBezTo>
              </a:path>
              <a:path w="7963" h="4490">
                <a:moveTo>
                  <a:pt x="19149" y="4787"/>
                </a:moveTo>
                <a:cubicBezTo>
                  <a:pt x="19141" y="4825"/>
                  <a:pt x="19076" y="5209"/>
                  <a:pt x="19075" y="5209"/>
                </a:cubicBezTo>
                <a:cubicBezTo>
                  <a:pt x="19067" y="5192"/>
                  <a:pt x="19058" y="5176"/>
                  <a:pt x="19050" y="5159"/>
                </a:cubicBezTo>
              </a:path>
              <a:path w="7963" h="4490">
                <a:moveTo>
                  <a:pt x="18926" y="4589"/>
                </a:moveTo>
                <a:cubicBezTo>
                  <a:pt x="19008" y="4557"/>
                  <a:pt x="19131" y="4522"/>
                  <a:pt x="19174" y="4465"/>
                </a:cubicBezTo>
              </a:path>
              <a:path w="7963" h="4490">
                <a:moveTo>
                  <a:pt x="19372" y="4415"/>
                </a:moveTo>
                <a:cubicBezTo>
                  <a:pt x="19463" y="4415"/>
                  <a:pt x="19534" y="4420"/>
                  <a:pt x="19621" y="4440"/>
                </a:cubicBezTo>
              </a:path>
              <a:path w="7963" h="4490">
                <a:moveTo>
                  <a:pt x="20241" y="3994"/>
                </a:moveTo>
                <a:cubicBezTo>
                  <a:pt x="20210" y="4085"/>
                  <a:pt x="20040" y="4401"/>
                  <a:pt x="20191" y="4465"/>
                </a:cubicBezTo>
                <a:cubicBezTo>
                  <a:pt x="20305" y="4465"/>
                  <a:pt x="20351" y="4457"/>
                  <a:pt x="20414" y="4390"/>
                </a:cubicBezTo>
                <a:cubicBezTo>
                  <a:pt x="20454" y="4331"/>
                  <a:pt x="20483" y="4319"/>
                  <a:pt x="20439" y="4291"/>
                </a:cubicBezTo>
                <a:cubicBezTo>
                  <a:pt x="20236" y="4367"/>
                  <a:pt x="20133" y="4424"/>
                  <a:pt x="20414" y="4465"/>
                </a:cubicBezTo>
              </a:path>
              <a:path w="7963" h="4490">
                <a:moveTo>
                  <a:pt x="20687" y="4068"/>
                </a:moveTo>
                <a:cubicBezTo>
                  <a:pt x="20667" y="4150"/>
                  <a:pt x="20612" y="4498"/>
                  <a:pt x="20836" y="4341"/>
                </a:cubicBezTo>
                <a:cubicBezTo>
                  <a:pt x="21011" y="4218"/>
                  <a:pt x="20899" y="4128"/>
                  <a:pt x="20762" y="4167"/>
                </a:cubicBezTo>
              </a:path>
              <a:path w="7963" h="4490">
                <a:moveTo>
                  <a:pt x="20042" y="4787"/>
                </a:moveTo>
                <a:cubicBezTo>
                  <a:pt x="20328" y="4689"/>
                  <a:pt x="20617" y="4588"/>
                  <a:pt x="20910" y="4514"/>
                </a:cubicBezTo>
                <a:cubicBezTo>
                  <a:pt x="20918" y="4514"/>
                  <a:pt x="20927" y="4514"/>
                  <a:pt x="20935" y="4514"/>
                </a:cubicBezTo>
              </a:path>
              <a:path w="7963" h="4490">
                <a:moveTo>
                  <a:pt x="20191" y="4936"/>
                </a:moveTo>
                <a:cubicBezTo>
                  <a:pt x="20108" y="5092"/>
                  <a:pt x="20029" y="5247"/>
                  <a:pt x="19918" y="5383"/>
                </a:cubicBezTo>
              </a:path>
              <a:path w="7963" h="4490">
                <a:moveTo>
                  <a:pt x="20538" y="4887"/>
                </a:moveTo>
                <a:cubicBezTo>
                  <a:pt x="20419" y="5006"/>
                  <a:pt x="20357" y="5085"/>
                  <a:pt x="20340" y="5259"/>
                </a:cubicBezTo>
                <a:cubicBezTo>
                  <a:pt x="20458" y="5217"/>
                  <a:pt x="20718" y="5143"/>
                  <a:pt x="20613" y="4961"/>
                </a:cubicBezTo>
                <a:cubicBezTo>
                  <a:pt x="20548" y="4918"/>
                  <a:pt x="20534" y="4906"/>
                  <a:pt x="20489" y="4887"/>
                </a:cubicBezTo>
              </a:path>
              <a:path w="7963" h="4490">
                <a:moveTo>
                  <a:pt x="20861" y="4862"/>
                </a:moveTo>
                <a:cubicBezTo>
                  <a:pt x="20825" y="4969"/>
                  <a:pt x="20792" y="5075"/>
                  <a:pt x="20762" y="5184"/>
                </a:cubicBezTo>
                <a:cubicBezTo>
                  <a:pt x="20877" y="5205"/>
                  <a:pt x="21061" y="5166"/>
                  <a:pt x="20985" y="4986"/>
                </a:cubicBezTo>
                <a:cubicBezTo>
                  <a:pt x="20910" y="4911"/>
                  <a:pt x="20886" y="4887"/>
                  <a:pt x="20836" y="4837"/>
                </a:cubicBezTo>
              </a:path>
              <a:path w="7963" h="4490">
                <a:moveTo>
                  <a:pt x="21258" y="4614"/>
                </a:moveTo>
                <a:cubicBezTo>
                  <a:pt x="21344" y="4570"/>
                  <a:pt x="21522" y="4539"/>
                  <a:pt x="21530" y="4539"/>
                </a:cubicBezTo>
              </a:path>
              <a:path w="7963" h="4490">
                <a:moveTo>
                  <a:pt x="22324" y="5432"/>
                </a:moveTo>
                <a:cubicBezTo>
                  <a:pt x="22192" y="5564"/>
                  <a:pt x="22151" y="5717"/>
                  <a:pt x="22126" y="5904"/>
                </a:cubicBezTo>
                <a:cubicBezTo>
                  <a:pt x="22336" y="5964"/>
                  <a:pt x="22464" y="5815"/>
                  <a:pt x="22498" y="5581"/>
                </a:cubicBezTo>
                <a:cubicBezTo>
                  <a:pt x="22512" y="5483"/>
                  <a:pt x="22410" y="5471"/>
                  <a:pt x="22349" y="5457"/>
                </a:cubicBezTo>
              </a:path>
              <a:path w="7963" h="4490">
                <a:moveTo>
                  <a:pt x="23044" y="5333"/>
                </a:moveTo>
                <a:cubicBezTo>
                  <a:pt x="23010" y="5418"/>
                  <a:pt x="22909" y="5711"/>
                  <a:pt x="22994" y="5804"/>
                </a:cubicBezTo>
                <a:cubicBezTo>
                  <a:pt x="23152" y="5977"/>
                  <a:pt x="23298" y="5650"/>
                  <a:pt x="23316" y="5556"/>
                </a:cubicBezTo>
                <a:cubicBezTo>
                  <a:pt x="23158" y="5586"/>
                  <a:pt x="23161" y="5585"/>
                  <a:pt x="23093" y="5730"/>
                </a:cubicBezTo>
                <a:cubicBezTo>
                  <a:pt x="23168" y="5803"/>
                  <a:pt x="23219" y="5815"/>
                  <a:pt x="23316" y="5755"/>
                </a:cubicBezTo>
              </a:path>
              <a:path w="7963" h="4490">
                <a:moveTo>
                  <a:pt x="23639" y="5259"/>
                </a:moveTo>
                <a:cubicBezTo>
                  <a:pt x="23492" y="5441"/>
                  <a:pt x="23457" y="5502"/>
                  <a:pt x="23564" y="5705"/>
                </a:cubicBezTo>
                <a:cubicBezTo>
                  <a:pt x="23706" y="5653"/>
                  <a:pt x="23949" y="5534"/>
                  <a:pt x="23788" y="5333"/>
                </a:cubicBezTo>
                <a:cubicBezTo>
                  <a:pt x="23755" y="5316"/>
                  <a:pt x="23721" y="5300"/>
                  <a:pt x="23688" y="5283"/>
                </a:cubicBezTo>
              </a:path>
              <a:path w="7963" h="4490">
                <a:moveTo>
                  <a:pt x="24061" y="5358"/>
                </a:moveTo>
                <a:cubicBezTo>
                  <a:pt x="24147" y="5335"/>
                  <a:pt x="24221" y="5308"/>
                  <a:pt x="24309" y="5308"/>
                </a:cubicBezTo>
              </a:path>
              <a:path w="7963" h="4490">
                <a:moveTo>
                  <a:pt x="24061" y="5581"/>
                </a:moveTo>
                <a:cubicBezTo>
                  <a:pt x="24141" y="5548"/>
                  <a:pt x="24224" y="5521"/>
                  <a:pt x="24309" y="5507"/>
                </a:cubicBezTo>
              </a:path>
              <a:path w="7963" h="4490">
                <a:moveTo>
                  <a:pt x="22771" y="6499"/>
                </a:moveTo>
                <a:cubicBezTo>
                  <a:pt x="22862" y="6423"/>
                  <a:pt x="22930" y="6392"/>
                  <a:pt x="23044" y="6375"/>
                </a:cubicBezTo>
                <a:cubicBezTo>
                  <a:pt x="23020" y="6504"/>
                  <a:pt x="22996" y="6585"/>
                  <a:pt x="22870" y="6648"/>
                </a:cubicBezTo>
                <a:cubicBezTo>
                  <a:pt x="22958" y="6613"/>
                  <a:pt x="23160" y="6557"/>
                  <a:pt x="23093" y="6747"/>
                </a:cubicBezTo>
                <a:cubicBezTo>
                  <a:pt x="23044" y="6887"/>
                  <a:pt x="22917" y="6896"/>
                  <a:pt x="22796" y="6896"/>
                </a:cubicBezTo>
              </a:path>
              <a:path w="7963" h="4490">
                <a:moveTo>
                  <a:pt x="23068" y="7268"/>
                </a:moveTo>
                <a:cubicBezTo>
                  <a:pt x="23002" y="7275"/>
                  <a:pt x="22870" y="7278"/>
                  <a:pt x="22845" y="7317"/>
                </a:cubicBezTo>
                <a:cubicBezTo>
                  <a:pt x="22813" y="7369"/>
                  <a:pt x="22803" y="7408"/>
                  <a:pt x="22796" y="7466"/>
                </a:cubicBezTo>
                <a:cubicBezTo>
                  <a:pt x="22874" y="7466"/>
                  <a:pt x="22976" y="7418"/>
                  <a:pt x="23044" y="7466"/>
                </a:cubicBezTo>
                <a:cubicBezTo>
                  <a:pt x="23204" y="7581"/>
                  <a:pt x="22939" y="7761"/>
                  <a:pt x="22870" y="7789"/>
                </a:cubicBezTo>
                <a:cubicBezTo>
                  <a:pt x="22766" y="7831"/>
                  <a:pt x="22739" y="7804"/>
                  <a:pt x="22647" y="7789"/>
                </a:cubicBezTo>
              </a:path>
              <a:path w="7963" h="4490">
                <a:moveTo>
                  <a:pt x="24160" y="3572"/>
                </a:moveTo>
                <a:cubicBezTo>
                  <a:pt x="24091" y="3556"/>
                  <a:pt x="23948" y="3515"/>
                  <a:pt x="23837" y="3522"/>
                </a:cubicBezTo>
                <a:cubicBezTo>
                  <a:pt x="23516" y="3542"/>
                  <a:pt x="23193" y="3517"/>
                  <a:pt x="22870" y="3497"/>
                </a:cubicBezTo>
                <a:cubicBezTo>
                  <a:pt x="22605" y="3481"/>
                  <a:pt x="22401" y="3458"/>
                  <a:pt x="22151" y="3547"/>
                </a:cubicBezTo>
                <a:cubicBezTo>
                  <a:pt x="22082" y="3572"/>
                  <a:pt x="22024" y="3604"/>
                  <a:pt x="21977" y="3646"/>
                </a:cubicBezTo>
                <a:cubicBezTo>
                  <a:pt x="21890" y="3724"/>
                  <a:pt x="21894" y="3746"/>
                  <a:pt x="21853" y="3870"/>
                </a:cubicBezTo>
                <a:cubicBezTo>
                  <a:pt x="21739" y="4219"/>
                  <a:pt x="21755" y="4651"/>
                  <a:pt x="21779" y="5011"/>
                </a:cubicBezTo>
                <a:cubicBezTo>
                  <a:pt x="21798" y="5294"/>
                  <a:pt x="21834" y="5598"/>
                  <a:pt x="21878" y="5879"/>
                </a:cubicBezTo>
                <a:cubicBezTo>
                  <a:pt x="21924" y="6171"/>
                  <a:pt x="21936" y="6427"/>
                  <a:pt x="21903" y="6722"/>
                </a:cubicBezTo>
                <a:cubicBezTo>
                  <a:pt x="21876" y="6966"/>
                  <a:pt x="21853" y="7195"/>
                  <a:pt x="21853" y="7441"/>
                </a:cubicBezTo>
                <a:cubicBezTo>
                  <a:pt x="21853" y="7513"/>
                  <a:pt x="21821" y="7709"/>
                  <a:pt x="21878" y="7764"/>
                </a:cubicBezTo>
                <a:cubicBezTo>
                  <a:pt x="21993" y="7876"/>
                  <a:pt x="22314" y="7829"/>
                  <a:pt x="22448" y="7838"/>
                </a:cubicBezTo>
                <a:cubicBezTo>
                  <a:pt x="22847" y="7865"/>
                  <a:pt x="23240" y="7929"/>
                  <a:pt x="23639" y="7938"/>
                </a:cubicBezTo>
                <a:cubicBezTo>
                  <a:pt x="23799" y="7942"/>
                  <a:pt x="23951" y="7950"/>
                  <a:pt x="24110" y="7962"/>
                </a:cubicBezTo>
                <a:cubicBezTo>
                  <a:pt x="24122" y="7892"/>
                  <a:pt x="24155" y="7688"/>
                  <a:pt x="24185" y="7590"/>
                </a:cubicBezTo>
                <a:cubicBezTo>
                  <a:pt x="24399" y="6886"/>
                  <a:pt x="24818" y="6294"/>
                  <a:pt x="24780" y="5531"/>
                </a:cubicBezTo>
                <a:cubicBezTo>
                  <a:pt x="24767" y="5273"/>
                  <a:pt x="24740" y="5014"/>
                  <a:pt x="24681" y="4762"/>
                </a:cubicBezTo>
                <a:cubicBezTo>
                  <a:pt x="24630" y="4545"/>
                  <a:pt x="24461" y="4341"/>
                  <a:pt x="24457" y="4118"/>
                </a:cubicBezTo>
                <a:cubicBezTo>
                  <a:pt x="24455" y="4020"/>
                  <a:pt x="24496" y="3893"/>
                  <a:pt x="24507" y="3795"/>
                </a:cubicBezTo>
                <a:cubicBezTo>
                  <a:pt x="24507" y="3770"/>
                  <a:pt x="24507" y="3762"/>
                  <a:pt x="24507" y="37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13720" y="1419120"/>
            <a:ext cx="1874520" cy="189000"/>
          </a:xfrm>
          <a:custGeom>
            <a:avLst/>
            <a:gdLst/>
            <a:ahLst/>
            <a:rect l="l" t="t" r="r" b="b"/>
            <a:pathLst>
              <a:path w="5210" h="522">
                <a:moveTo>
                  <a:pt x="18926" y="3944"/>
                </a:moveTo>
                <a:cubicBezTo>
                  <a:pt x="18929" y="3977"/>
                  <a:pt x="18938" y="4170"/>
                  <a:pt x="19025" y="4118"/>
                </a:cubicBezTo>
                <a:cubicBezTo>
                  <a:pt x="19050" y="4093"/>
                  <a:pt x="19075" y="4068"/>
                  <a:pt x="19100" y="4043"/>
                </a:cubicBezTo>
              </a:path>
              <a:path w="5210" h="522">
                <a:moveTo>
                  <a:pt x="19124" y="3969"/>
                </a:moveTo>
                <a:cubicBezTo>
                  <a:pt x="19094" y="4108"/>
                  <a:pt x="19087" y="4201"/>
                  <a:pt x="19100" y="4341"/>
                </a:cubicBezTo>
              </a:path>
              <a:path w="5210" h="522">
                <a:moveTo>
                  <a:pt x="19100" y="4341"/>
                </a:moveTo>
                <a:lnTo>
                  <a:pt x="19100" y="4341"/>
                </a:lnTo>
              </a:path>
              <a:path w="5210" h="522">
                <a:moveTo>
                  <a:pt x="23986" y="4266"/>
                </a:moveTo>
                <a:cubicBezTo>
                  <a:pt x="24038" y="4247"/>
                  <a:pt x="24136" y="4243"/>
                  <a:pt x="24110" y="4217"/>
                </a:cubicBezTo>
              </a:path>
              <a:path w="5210" h="522">
                <a:moveTo>
                  <a:pt x="23986" y="4465"/>
                </a:moveTo>
                <a:cubicBezTo>
                  <a:pt x="24070" y="4444"/>
                  <a:pt x="24089" y="4442"/>
                  <a:pt x="24135" y="441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9080" y="1473120"/>
            <a:ext cx="554040" cy="304920"/>
          </a:xfrm>
          <a:custGeom>
            <a:avLst/>
            <a:gdLst/>
            <a:ahLst/>
            <a:rect l="l" t="t" r="r" b="b"/>
            <a:pathLst>
              <a:path w="1539" h="844">
                <a:moveTo>
                  <a:pt x="22175" y="4291"/>
                </a:moveTo>
                <a:cubicBezTo>
                  <a:pt x="22175" y="4221"/>
                  <a:pt x="22145" y="4372"/>
                  <a:pt x="22126" y="4440"/>
                </a:cubicBezTo>
                <a:cubicBezTo>
                  <a:pt x="22081" y="4604"/>
                  <a:pt x="22059" y="4742"/>
                  <a:pt x="22051" y="4911"/>
                </a:cubicBezTo>
                <a:cubicBezTo>
                  <a:pt x="22237" y="4922"/>
                  <a:pt x="22409" y="4897"/>
                  <a:pt x="22423" y="4663"/>
                </a:cubicBezTo>
                <a:cubicBezTo>
                  <a:pt x="22415" y="4638"/>
                  <a:pt x="22407" y="4614"/>
                  <a:pt x="22399" y="4589"/>
                </a:cubicBezTo>
                <a:cubicBezTo>
                  <a:pt x="22239" y="4576"/>
                  <a:pt x="22197" y="4643"/>
                  <a:pt x="22250" y="4787"/>
                </a:cubicBezTo>
              </a:path>
              <a:path w="1539" h="844">
                <a:moveTo>
                  <a:pt x="22696" y="4217"/>
                </a:moveTo>
                <a:cubicBezTo>
                  <a:pt x="22593" y="4354"/>
                  <a:pt x="22417" y="4612"/>
                  <a:pt x="22572" y="4787"/>
                </a:cubicBezTo>
                <a:cubicBezTo>
                  <a:pt x="22605" y="4795"/>
                  <a:pt x="22638" y="4804"/>
                  <a:pt x="22671" y="4812"/>
                </a:cubicBezTo>
                <a:cubicBezTo>
                  <a:pt x="22770" y="4708"/>
                  <a:pt x="22984" y="4439"/>
                  <a:pt x="22746" y="4316"/>
                </a:cubicBezTo>
                <a:cubicBezTo>
                  <a:pt x="22721" y="4324"/>
                  <a:pt x="22696" y="4333"/>
                  <a:pt x="22671" y="4341"/>
                </a:cubicBezTo>
              </a:path>
              <a:path w="1539" h="844">
                <a:moveTo>
                  <a:pt x="23093" y="4142"/>
                </a:moveTo>
                <a:cubicBezTo>
                  <a:pt x="23053" y="4207"/>
                  <a:pt x="22938" y="4337"/>
                  <a:pt x="23019" y="4390"/>
                </a:cubicBezTo>
                <a:cubicBezTo>
                  <a:pt x="23059" y="4309"/>
                  <a:pt x="23016" y="4192"/>
                  <a:pt x="23044" y="4142"/>
                </a:cubicBezTo>
                <a:cubicBezTo>
                  <a:pt x="23060" y="4126"/>
                  <a:pt x="23077" y="4109"/>
                  <a:pt x="23093" y="4093"/>
                </a:cubicBezTo>
                <a:cubicBezTo>
                  <a:pt x="23373" y="4202"/>
                  <a:pt x="23311" y="4363"/>
                  <a:pt x="23217" y="4638"/>
                </a:cubicBezTo>
                <a:cubicBezTo>
                  <a:pt x="23188" y="4723"/>
                  <a:pt x="23109" y="4836"/>
                  <a:pt x="23143" y="4887"/>
                </a:cubicBezTo>
              </a:path>
              <a:path w="1539" h="844">
                <a:moveTo>
                  <a:pt x="23440" y="4514"/>
                </a:moveTo>
                <a:cubicBezTo>
                  <a:pt x="23404" y="4631"/>
                  <a:pt x="23370" y="4657"/>
                  <a:pt x="23416" y="4762"/>
                </a:cubicBezTo>
                <a:cubicBezTo>
                  <a:pt x="23558" y="4696"/>
                  <a:pt x="23671" y="4620"/>
                  <a:pt x="23515" y="4490"/>
                </a:cubicBezTo>
                <a:cubicBezTo>
                  <a:pt x="23490" y="4473"/>
                  <a:pt x="23465" y="4457"/>
                  <a:pt x="23440" y="444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43920" y="2527200"/>
            <a:ext cx="214200" cy="27000"/>
          </a:xfrm>
          <a:custGeom>
            <a:avLst/>
            <a:gdLst/>
            <a:ahLst/>
            <a:rect l="l" t="t" r="r" b="b"/>
            <a:pathLst>
              <a:path w="596" h="75">
                <a:moveTo>
                  <a:pt x="22622" y="7094"/>
                </a:moveTo>
                <a:cubicBezTo>
                  <a:pt x="22820" y="7070"/>
                  <a:pt x="23019" y="7042"/>
                  <a:pt x="23217" y="702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 BC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32:58Z</dcterms:created>
  <dc:creator>TAMMY  COON</dc:creator>
  <dc:description/>
  <dc:language>en-US</dc:language>
  <cp:lastModifiedBy>demcgra</cp:lastModifiedBy>
  <dcterms:modified xsi:type="dcterms:W3CDTF">2012-03-07T20:29:05Z</dcterms:modified>
  <cp:revision>13</cp:revision>
  <dc:subject/>
  <dc:title>Opener:</dc:title>
</cp:coreProperties>
</file>